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7F0E-3A4C-4062-9833-FAB024B3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E2D-3B3B-4F74-9679-D564CCF4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D88-A623-457C-AA80-9A487116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9F49-0C2D-4E52-90B4-086BF05F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54FC-4357-4B90-862B-5BA1E746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50C2-75D5-46C4-9D64-33E22551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0D4A-B63F-4AB3-B009-423A2CD3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F0D7-3B1A-4D5C-A93E-DD4C4348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E2D2-F502-4DF8-87B3-064D5042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9A70-FB64-4AD8-AED7-9C4BF6CB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9A65-DB11-41A2-871F-42FEFF71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C6B0-1ED3-4C5C-944C-155AF9C1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B8C7-AE87-46D2-A465-36CC82D0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4F2F-936E-490F-B260-21704AD3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8049-AD6C-474D-8020-C4E0319A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A7E8-9726-41D6-AEFC-4F0B88F3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A95F-1FC2-4EDA-B46E-EEE8029D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262-30BD-4132-9F70-AE6D6741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394-659D-408D-B7DC-C5D0B548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181-4A32-4EF5-BA60-E5B82B8B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8A1-8E20-47A4-A66C-482911A5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ABE-3D38-4343-959F-B02ED325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F81A-83DF-4CA5-96DA-BF96AC33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08A3-BE03-4759-8C7C-73EDA326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FB89-CA55-4AF1-B468-B9F1368156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F5EE-3D89-4C0F-8E6B-78F872B318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44480"/>
          <a:ext cx="42148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44480"/>
                    <a:ext cx="42148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0-31T06:13:30Z</dcterms:modified>
  <cp:revision>38</cp:revision>
  <dc:subject/>
  <dc:title>Структура собственных доходов на 2016 год бюджета Дальнереченского городского округа</dc:title>
</cp:coreProperties>
</file>