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A39B-832A-40FF-8A42-52A9055F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305B-F207-4944-A31F-77ACF6CA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267D-A167-4653-A37C-70A6A7EC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8A67-3978-4B0F-93A6-AB50E1EF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903E-E611-456E-8401-D1A602DF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B74F-41AA-412C-B534-CFEEB1F9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7B6D-3D65-4548-BF20-14E6C9C4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3449-64AE-48D2-BB29-61BE0D93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E785-8ABE-4F7A-BE98-873856A9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23E1-91DB-4963-9F21-1CAB6A00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2332-FD5E-4453-9D5D-89594F57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918B-3F9C-46A5-81E9-C9D989BA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497D-2C4D-4303-A708-5D043F0C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1014-A5DC-46C5-9AED-748A6A52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A6A8-BF85-4E61-80AD-DE70B39F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18D4-962B-426D-9523-4892D8A4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88BB-E10C-4277-8096-B76E4E93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89F-68E8-48C5-BB5E-9B4965C4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182A-1F99-4328-826E-FB404D83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1944-BFCB-41BC-8E64-3C6503AF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0A5D-256D-4D9D-8C82-4C96C298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42E-57C0-49DF-B5CD-85295C86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F038-B989-4741-9BDC-17EA054A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5577-BC84-49FB-A7EE-C49D3FA4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D768-182C-4F9E-9A67-49C4C08A2C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1749-BC8D-4285-935A-08F87DE25F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44480"/>
          <a:ext cx="4214880" cy="488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44480"/>
                    <a:ext cx="4214880" cy="48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0-31T06:13:30Z</dcterms:modified>
  <cp:revision>38</cp:revision>
  <dc:subject/>
  <dc:title>Структура собственных доходов на 2016 год бюджета Дальнереченского городского округа</dc:title>
</cp:coreProperties>
</file>