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6FD3-10B5-4AF4-B58B-5B15FCCB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4138-3127-48EF-8C85-C38D14E8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D012-AA03-4977-AFC8-10F95DA1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D049-E638-4F33-8EEA-E47069F1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B052-06F4-4421-930A-C67CB54F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BD25-2A84-4FD1-9080-87F64BBD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DB8D-4B0F-48FE-AF08-12B168C9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7D25-F10E-4631-A007-CC4CBFD0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124A-76F1-458D-A945-464E6BCD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B9FF-D13E-4FD1-A487-C2951F06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00CB-63BB-4A36-A51A-5159A58B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0FAD-2B31-46E5-AC18-3A9348CA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7C24-7EE5-4B5B-AB4E-67551D8F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CE1E-C2AB-47CA-95C6-2B009B13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3DAC-4698-4552-8109-4E639884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DD84-6436-4980-ABE4-9CD94399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DE33-1911-4BA8-B033-30CC2495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3EB3F-2A6A-47D8-A614-07175D00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F02E4-5C9D-4132-8D41-091FD73E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E0ED3-C2A8-42E1-9CF9-2BF954FE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2FE90-719F-4077-BB77-68BD2750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E265A-A32B-41E2-A0DD-D0DFC730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4930-9BF3-4ECF-B1BE-4EC79C1A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3FE29-1C26-434F-8A9C-841D3AC6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77A25-7B9F-4F7B-8AB2-6709C393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4D98E-C704-4F6E-9C40-1DADBCD9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F8D30-3803-4071-B494-711ACC2C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577A7-6783-445D-9C83-3CA95098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66CA1-0473-464E-80D9-015B07E0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7562E-E587-44C8-9570-5FCD4BE8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098CD-2CF6-4522-B09D-0DFEB10C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2408F-EE99-481C-9169-1B562303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3E409-C64E-4861-94E0-20B2B675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AC63-71B2-4F33-A41B-87AA3111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E06CD-967F-4696-962E-362DF024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7C25D-86A0-452F-A993-B3A7EB74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F7778-2C89-4FC3-AF7C-8C530787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610B5-F246-4660-9F33-6D340D0B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0D872-7991-4DDA-BAC3-08C86A84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6B804-E216-49B7-A7F0-BB2E1EEF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8C758-FBF0-47DB-885F-8C3ACD64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DDAB4-FA5A-48CF-8521-C38F6546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C3476-0B48-43E2-A961-B7667DBBB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15F3-EECF-44A7-9B66-8D63D0E8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9B09-DF22-4390-B5CA-5049F67B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868D-75F7-468A-A5B3-29E31CED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2B26-E754-4C44-832C-4D3C2BD9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7EA8-F8F4-4CEC-A200-B89AF835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7623-041D-48B4-85DE-191F76DCA3E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1CF6-020B-4EBB-A1E9-740BCC5929D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E14B-D489-426C-8EB2-8D45F6257D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554F-E210-4B96-9D59-7CD5260053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6.12.2016 № № 88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7 год и плановый период 2018-2019 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752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4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3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2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2,8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35,65 млн.руб. (местный бюджет – 126,93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8,72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0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– 8,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9,0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6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</a:t>
            </a:r>
            <a:br>
              <a:rPr sz="1600"/>
            </a:b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ДЕЯТЕЛЬНОСТИ В 2017 ГОДУ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(млн.руб.)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5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351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6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7531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9,33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,32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0000" y="270000"/>
            <a:ext cx="8102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8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77920"/>
            <a:ext cx="77310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2,8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01-26T07:57:55Z</dcterms:modified>
  <cp:revision>114</cp:revision>
  <dc:subject/>
  <dc:title>Структура собственных доходов на 2016 год бюджета Дальнереченского городского округа</dc:title>
</cp:coreProperties>
</file>