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408D-B86F-4D4D-A139-2BC7912B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397C-5844-49BB-B313-D2A54C51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B778-8005-4CE8-8DAD-38782124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A68D-51F7-4B5E-B958-80F88DDF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7855-560E-4D6A-B4EC-0DD061B3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81C1-234B-49C9-A3F9-811B0854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57CD-3AA5-473A-A85D-8406163B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13F6-1E94-4979-BC7C-066982DC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B129-3B0F-4775-9E06-06DD16C4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807D-673F-4DFC-8223-D71BC609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BC0B-CA4F-4D46-896E-756644BB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36B2-E94A-4646-B53D-53639AD0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01BA-9ACC-46F9-ABCA-C30C107B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257C-2653-4BEE-A81F-F70E00CA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B1E8-DCB1-4384-BC50-DE3756BF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12FD-21E9-4404-ACC9-3967FB75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4D6E-87F7-4886-8301-273DADE8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168E-B6FE-463E-93E3-054D65E0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8CE-1490-46AF-8B8F-63D2D3D4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B7D1-DB23-4A70-B1DB-BDBF5D93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8564-57FB-43AF-815D-A443AC5D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30F4-F35C-4910-BEAD-AC626C6A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8829-7B8C-4516-8402-961B6F1B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9EE-508E-4B94-8353-FF3F92C4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4A99-138C-44D0-B268-0BA8CF6752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7996-E894-4F4C-BAE0-AAD4E82050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1:47:56Z</dcterms:modified>
  <cp:revision>39</cp:revision>
  <dc:subject/>
  <dc:title>Структура собственных доходов на 2016 год бюджета Дальнереченского городского округа</dc:title>
</cp:coreProperties>
</file>