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C6C2-2DCF-4D3B-9995-039A27E4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B835-06AC-4079-9381-01AACC9F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F7DD-C6F1-43F0-BF1E-3FDC6D8D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7EA4-DF80-42A5-B101-3F64BF34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A6E8-1239-465A-85B7-F91F5F31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C461-973D-4B14-BF73-EA1E0836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A574-1515-45AE-969C-0A2704A5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8357-6637-45AE-9AE9-7BF9D09B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3034-CA43-47F0-908B-7C545322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F809-EDB9-46B6-9109-1BA8E166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D102-FBDB-4053-8C80-CB23C078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6D29-1B5B-4908-BD97-726A904C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FDCC-B6F6-4903-B662-0E35A982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6BAA-9C51-4C40-8225-48D34B19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5C93-F0F9-4FD5-8849-5F66EC1E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E03D-E564-43B4-81C3-35FD6C7F0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1505-5FAC-4774-9704-320D74D7A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74E2F-D582-4824-BBEC-6D038FBFB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68F21-5441-4044-9ECC-9364250E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2AF62-76F0-4E0C-B071-E02789DA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081DE-0979-4ED5-9403-085DE484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883AD-FD7D-4161-B20F-B50CDB12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FC19-A726-4367-9926-664A08AA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B10B3-47A8-45DD-9880-2229513D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66FCA-AABB-4251-B6C2-C451A048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63DE5-C45E-47CB-ADB4-E4FB7A99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F3ED1-6322-4208-9530-ACFFBD81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C441A-4567-426B-9977-F09CC51E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58CC3-D4BC-4E1C-A9AA-58B5F1E87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3298C-B7E2-40DC-9F73-F6015529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D673D-A0B5-46A9-9495-EF646589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857CE-CA2D-4DAA-ABC4-B5971407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C4988-B1AD-434A-B5F5-A30D3A9B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1696-25F6-47F4-8199-C332B146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4E247-7EDD-4F18-A126-3794AD7E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F7B53-B76E-4CC3-9FC2-90C3ACDE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33676-4B7A-44CC-B84F-3F3E6822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ED676-AA1E-4DC4-A54A-621EB2CA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AD46E-08B9-41C7-8830-1428B5E9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312B3-321E-4648-BA96-4282425B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BBCD4-F8F0-4E04-81A7-7E16FA59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E0E70-C805-4A9B-AE7B-E1E9F076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837EF-F45A-4A97-89A5-9BE21C51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B452B-3D9C-45BE-ADB8-9B82EF76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74E5-F655-4EC3-B3DE-FAFC3C3A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FCCAB-0CB5-4827-9C65-14BA5B69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3ACBC-0C53-4D01-A60E-77512CBE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D0ED8-1519-4155-B13D-9F25B266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C995E-C7F3-4A7C-8786-A0AC218A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C7847-9A5C-4888-B91A-BA677C09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298C2-7E03-49CA-A43D-8C216440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C6E02-BD3F-4D2A-870B-E93C3755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19613-FB5D-4DFF-B59D-B50C9685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D4145-9339-458F-870A-842B4AC2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33F84-33AE-41AD-B267-D3A29894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F109-52E4-4E3B-97C6-A12CE170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04236-0C1F-48D9-A8B1-D8F47319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BB8FD-431A-4610-9535-19214738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20F9B-20E7-490E-9D11-01DA0354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B50BF-7050-479B-871B-2C7AD55C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F16AB-16E6-4406-A448-2946385C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E1F20-B48A-42AE-BE0C-F9DC1A24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FF389-6097-4C8E-B8F8-A6CE209B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10275-2461-4624-AC7B-EE4E6B63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3EB90-584B-4B13-8DD9-80FC2073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D5E48-A279-4339-98CF-2D56153A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02E3-978E-43D9-8032-BA9F537D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C6BA8-FE15-4019-98EA-17225ADE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9BFBD-D8D0-4438-8418-D1C037C99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0E67B-DC73-4BD9-B9BB-D8D4B12DA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E597-0C16-4F75-BA3B-F59B1A12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CB1-82EC-4DDA-B5CD-D41D2707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3C36987-739A-4DCF-ACDC-9D825A1AB7C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FE0FD3C-962C-42D5-BC31-786F3938DB4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FB6E8FD-02F7-44AD-97BC-2B28846631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0B22868-76D0-4B49-AC04-4353662E0F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9252906-6442-425E-B11E-2905626C20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777B895-ADEE-43A8-B4DD-5715C52468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3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11,3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65 млн.руб. (местный бюджет – 118,0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8,03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7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(по состоянию на 01.10.2017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499,3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79,78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0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1,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2:00:30Z</dcterms:modified>
  <cp:revision>107</cp:revision>
  <dc:subject/>
  <dc:title>Структура собственных доходов на 2016 год бюджета Дальнереченского городского округа</dc:title>
</cp:coreProperties>
</file>