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9B91-2713-46EF-A774-EF76CC540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A24C-7625-437F-AB2C-5213699A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D777-1A7D-4F21-9BE9-22BEAD589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A67A-2CCA-4AB7-9111-124DF6814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EDA7-D5E9-466E-8CC2-3E0B0C1F4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8367-E97E-49C9-8541-D4309BC0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FFCA-C587-4805-AC07-58550636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CCC7-3900-4EA4-9AF5-4A26EE96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05B09-CE15-4ED9-A8D2-1902091C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FB35-FF7E-4F13-A729-065089C4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9C195-DD0B-4C1D-B9E7-A1884B60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5E95-A6BA-4755-BC05-67B83642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5F3E-127E-457D-8E23-3321E0C6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D8BB-3801-4F24-B962-0395EAED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8623-B84F-4137-A176-754C0779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5FD2-C542-4D24-81D8-83C3DC7C3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EF5E-29B8-4080-9AEC-63C15F059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4381A-0CA8-4B5E-BF7A-CE1CC0094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FEF34-AFFC-4C37-A798-41D3087C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FEED8-2362-4CF9-9F37-CE993884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1515F-E8A3-41EB-88BA-978BB201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542B1-B045-4065-8C07-DF97A930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E6F8-729E-4F33-9168-7267B2AC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15149-379A-4D96-8768-6C90793D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06929-5962-408E-BC09-F6E92A1E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5F89F-2CA1-4535-89A7-BE8BD52B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AD0C8-78E4-4D16-B833-6B86EA7C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A98CC-F5DC-4E9C-9E50-B19194D5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2DDB9-C8B1-43D5-94E4-91F3E18FD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B5D9C-ACC5-44D2-9BE7-425ABC6BF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651CB-4F04-432E-9037-19FE7396E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77667-CFF6-473C-887B-DFFDF630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2E580-62A7-4D47-9957-BA90024C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EF15-3C6F-4D3E-8392-87A4089F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A8C81-74FE-45B3-8C09-232B66AC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2C985-B703-4593-915B-605AFC32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103C7-75E6-468F-8291-D83E1FCB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ADC0D-E24D-45A9-B1DA-E698F9D0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76E69-7572-499A-8A2B-E23733BD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2A036-E9B5-4F68-A4BF-33E118B7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37B51-BFC7-4E49-8D7D-2CBD07B5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0B510-A419-49C0-9FAD-7AAFF8E43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EEEEB-E40C-4DD5-8104-3306F7876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9B8BA-84A7-450B-9ACE-51D764846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88CC-D742-4043-92DB-BB60DD8D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5966D-C14E-444F-AEAE-A17C1B38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1E736-9770-416F-9435-40702261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79F7C-641A-4282-B976-DD752821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15F68-B9B4-4425-B429-E0CE8E92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18E65-352B-4CE6-94BA-CF006ACA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DAE0B-19C3-4EB1-AD07-2A692729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08D3B-9796-44D2-A86C-E25AF7E6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6FB36-9E66-42B1-8158-86F0314C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F3785-18A3-437F-86A5-19044FE1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FD849-E2D4-451E-AE4E-137E8BCAA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CCD7-76B7-421C-B97D-CDCEEEF8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F6C78-6118-4DA6-BE23-9D0BEA32D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2B3AF-AB24-4693-94AF-121318093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57F91-6B06-4576-BA52-D734BC0B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0E60A-072E-4A78-A1F6-8A7F65C6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5FA36-B019-4078-AC20-89E4F0EB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DDEAE-527E-4437-9870-B3CCF686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E2CCB-AF21-40D7-AE7C-198B23FD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6898B-0F27-457D-9131-AC589A0E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E592F-D3EA-475A-A5E0-489D8186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18D57-7DFC-463F-B88F-E434ABF1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7021-BC61-43B4-BD12-A3C05F76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A0775-BF10-4151-AC3B-2F30141B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40107-D95B-45D1-B800-D17D63B9E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FCBC4-B584-4896-9E20-5943F4F1C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7BE0-C5B1-4633-9AD4-D3EFAC14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2877-39EB-422D-BA30-7BB56260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847564F-0F77-41D5-BDF2-ED4B96C9007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2C89554-742A-49EC-8FAA-66D66E561DF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9FB0A55-776E-4FAF-B2AD-082088B5C68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E78B911-182D-4C97-8080-DA766227D73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23CA69F-FABF-49D2-AD78-C2E31C196F0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FD493A7-8CD5-4056-81F8-B043F424D27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8 ГОД И ПЛАНОВЫЙ ПЕРИОД 2019-2020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  </a:t>
            </a:r>
            <a:br>
              <a:rPr sz="10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(решение Думы Дальнереченского городского округа от 19.12.2017 № № 106</a:t>
            </a:r>
            <a:br>
              <a:rPr sz="13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"О  бюджете Дальнереченского городского округа на 2018 год и плановый период 2019-2020г.г.«)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4338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4996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0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7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4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8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1,4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0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2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6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8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3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9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4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6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9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3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0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8 ГОД  </a:t>
            </a:r>
            <a:br>
              <a:rPr sz="1500"/>
            </a:b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514,78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8 год – 328,95 млн.руб. (местный бюджет – 118,36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10,5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50,9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8 год - 13,18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10,15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0,7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0,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9,5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1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296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9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,9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2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198000"/>
            <a:ext cx="8153280" cy="792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96088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592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9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72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1,4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6,2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3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8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 на восстановление автомобильных дорог и мост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8 ГОД (502,8 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8 ГОДУ (281,29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57200" y="153828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3828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8 ГОДУ (215,3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492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4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4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7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9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4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8 ГОД (514,78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02-01T23:55:44Z</dcterms:modified>
  <cp:revision>140</cp:revision>
  <dc:subject/>
  <dc:title>Структура собственных доходов на 2016 год бюджета Дальнереченского городского округа</dc:title>
</cp:coreProperties>
</file>