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34AB-5C86-4499-9200-3C260BB7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00DE-D732-4FBA-AAF8-4342C412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C798-B3E9-4BA7-96FD-881CB81D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1A90-0750-4902-9BC9-9DA777BCC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D2D1-2F1D-4846-BB85-3B009DE9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CCE3-5467-46F3-A9E8-C40584C5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2E02-5950-4EF7-94A2-8E017A8D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2393-B8EE-4C2E-935D-55BF7C27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3C48-595C-4EFA-90FF-20EF782E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A346-AF5A-40EA-8808-A73F5C0C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6411-0EAE-49D6-9AC6-2C7C07AA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83CA-AC8B-4685-A423-619493A0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B21B-B59C-40EA-9A29-D39DE9B3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21DF-E94F-4EC4-A4B3-AAAA8F32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F194-B06E-4970-A232-3386E0BE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6945-7A58-456A-BC8E-5C928B27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00D9-076B-4D9D-BB0C-B03A0AB5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0E69-2737-4ECC-A9DF-C38CC385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7DE5-69F9-41F4-9C24-3565AD3D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2C13-EE1E-49C4-BFAD-B12083BA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D4A9-CBCA-4397-8884-CF3C731D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BE45-F479-4DA6-817D-B02520B6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FC13-7378-4773-9890-E1828FE2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DDC0-EA78-4EF4-9AA6-AFAA3449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1B38-10B5-4C30-98B2-25BCFB716D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D385-A010-4D8A-9520-1717943DB0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06:25:27Z</dcterms:modified>
  <cp:revision>40</cp:revision>
  <dc:subject/>
  <dc:title>Структура собственных доходов на 2016 год бюджета Дальнереченского городского округа</dc:title>
</cp:coreProperties>
</file>