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9750-E8FB-448C-B0C4-5F806ED57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79A9-E1CA-47B8-A943-00C3389C2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00C5-905B-4899-8653-5BE1D3CA0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7D8E-79F6-45F5-8BF0-DF6228A1D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34A0F-8B42-4DC0-9E0E-D3C645F0D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F50DF-8DBD-48B6-B799-F4E09A904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6695E-BE86-4AD2-8B4C-00E441E99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15271-05C3-4808-821E-74113AB55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63A2B-CFFC-4E03-A802-49A2987CE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FE422-3174-4F40-9655-E7D6AA014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23443-F87E-4B59-A41C-05D0F1095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0EF2-59E5-4F0E-AB12-C91538856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81EBC-3E20-4C1F-9CCD-058B0624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93E67-CD91-4E3B-87A5-2DB8269E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7B3D7-06CB-407C-9661-969FD2683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2C046-0766-4EB0-8188-6C7880BE7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E6C90-1FD9-4986-AB71-8A39B84B8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8B02D-CD08-4201-BEE8-19D6E1931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7B37D-3C29-4618-83B0-3382054DD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A0138-9316-4671-9A50-D39675C87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C3B1D-2F02-44C2-98A2-A2100B9EB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FA201-9234-4CA1-99A6-68E0A0669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BE7F-5A56-4979-8E47-0D8486246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764D0-B451-4241-B100-606B5ABB6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C0D2B-401C-4E45-98B9-4E5BC73F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04FAE-6F9C-4788-A6A8-B345506E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EAC53-55C1-43E8-B4E6-55801B54F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5170D-982C-4790-BB59-EB9CB39B0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BC449-B481-492D-8A1F-E4F986177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B2B1F-E978-405A-A801-BF00A923F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1EB1E-86AB-45F7-9297-591A0F1F2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6F66D-0368-47F0-8C07-E2876CDF8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846BC-F893-4429-9C74-2D3B7EFE4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5091-B22E-428F-878D-ECFAF0BAC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9447D-9849-4973-B3A9-980596A52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8BF4A-3846-449E-9F9A-6D3C30A27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4053B-CBA0-4C7F-8D6B-8886765C5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A0277-A98B-463D-B466-6987ED46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0FAB6-0075-45DE-9EDD-88D457B11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ECD6B-FA50-4D5D-8BC8-F54099476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3EE38-C7D1-4B81-9EE4-8808E39B9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818FB-6C45-40D1-A6A5-4E1F87DA5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16C95-9108-4FE7-B6E3-8C55EA55B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539C9E-03EC-4DC0-BCEE-DBDA4BE91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8F6F-A71B-4C3A-ABA7-9F4969175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385A6-2FAB-4EC8-A9F6-5EBBDAF7E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7E311-E3DF-47CA-A4BA-5A0C75E37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350E4-E284-4561-9397-DF3CE3680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B4AA4-F740-4DCE-B13E-77FE632B5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6D3A9-B5E1-45A1-ACC9-913EE8843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0CF0EE-518C-45F5-ACD8-307D0629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135767-DBED-438F-A24D-361474CAB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65D15C-0EF5-4ABD-B372-BA6C06EB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2D1C11-2DB0-4AFC-AE6C-BA15F9F16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52AA65-7704-42B0-BA9A-62AB714B3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EBC9-6E21-46DE-8412-3301921B4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13B2E-0AE4-4B83-B45E-432677F1E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42C3EE-20AE-40C6-ABDA-51B437356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AE5343-73CB-44C6-869F-64E8F79CA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A0B760-1804-47BF-A5B6-EB8934741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991B45-5B8F-4086-9839-6A0594BDE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4A5C47-DB49-4546-84EC-C1C00D364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2E26A9-93CC-46A6-9309-5C2C01B40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BDBD04-24DF-40F4-8B3F-90E5663F9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B534C1-1D39-47BD-9924-73210554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DFC427-DA95-4564-A33D-1A4341620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0F8C-C9DE-4BD5-8C73-D00C94E35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6CCE32-E502-4918-82C8-E3BFA3B54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8A5B2F-2E5E-4B0A-9D17-32B45EB44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D2A6CB-2147-416F-8ADB-4805568DB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17F2-E3A6-4C14-B6F4-485A07B4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1665-B091-4DD7-9B2C-834FAFE49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087DCD95-89EB-4A61-8BB4-B6B4A8D029F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A64274AC-EE38-4E48-992F-3430AD2275C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95" name="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58BD4085-168D-4B10-8033-DD02FDBC78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40" name="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9680" y="1429920"/>
            <a:ext cx="8109000" cy="1614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0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11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12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01AB758D-F2B7-4C19-AB39-D569DD98B8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18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18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045A3096-A34C-4A03-B0EB-EC33F1D117F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23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CD75DDE7-F181-4700-AE30-7C882A579D6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9 ГОД И ПЛАНОВЫЙ ПЕРИОД 2020-2021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701640" y="990720"/>
          <a:ext cx="7777080" cy="592272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2610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1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38,4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0,6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2,9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3,4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3,4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9,5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7,3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7,3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4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4,8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,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5,6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5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1,2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4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2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6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2,4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2,6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2,5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1,5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4,0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4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0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9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9 ГОД  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572,67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72920" y="414360"/>
            <a:ext cx="795636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9 год – 357,91 млн.руб. (местный бюджет – 156,47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01,44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- 66,22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9 год - 6,1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- 11,09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- 1,91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– 2,6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– 1,8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282680" y="1892160"/>
          <a:ext cx="7290000" cy="461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2680" y="1892160"/>
                    <a:ext cx="7290000" cy="46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228600" y="261720"/>
            <a:ext cx="7896240" cy="61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5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630360" y="1235160"/>
          <a:ext cx="783900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1235160"/>
                    <a:ext cx="783900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7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 год (по состоянию на 01.10.2018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1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0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,9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,4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,5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5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2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6,4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2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0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541440" y="990720"/>
          <a:ext cx="8151840" cy="568800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по состоянию на 01.10.20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19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,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5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1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3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6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2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4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414360" y="990720"/>
          <a:ext cx="8567640" cy="581976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по состоянию на 01.10.20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3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9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7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7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и на поддержку государственных программ Российской Федерации, и пр.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6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6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6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5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19 ГОД (560,67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19 ГОДУ (351,14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485640" y="1566720"/>
          <a:ext cx="800100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640" y="1566720"/>
                    <a:ext cx="800100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8 И 2019-2021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5240160" y="1141560"/>
          <a:ext cx="3470400" cy="565596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6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0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9ГОДУ (206,48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по состоянию на 01.10.20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6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,1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,6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7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7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2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0,7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0,7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7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2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2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2,5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1,5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9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 ГОД (572,67 млн.руб.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58720" y="1397160"/>
          <a:ext cx="8178840" cy="51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397160"/>
                    <a:ext cx="817884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8-11-07T05:14:40Z</dcterms:modified>
  <cp:revision>130</cp:revision>
  <dc:subject/>
  <dc:title>Структура собственных доходов на 2016 год бюджета Дальнереченского городского округа</dc:title>
</cp:coreProperties>
</file>