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943F-2D91-4D62-B8D7-66AB8CD69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8A5F-36D6-484E-A894-E2CE9554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D713-B180-41F2-B332-F45ADCDC2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2EC2-E2BD-4E60-8F11-19A68F9FF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6E35-2D5A-4B65-A745-DD1FD696B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56F7-5866-49CA-9BEC-3718F7C1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97D7-3C24-417B-A780-0D0B0BC5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C05D-4E3E-4B99-97F3-2C2D5EA1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F882-6D68-4717-BCAF-33495E04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8D31-92B2-4896-86AD-972F383E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A1D7-9E3B-465C-9DC5-6C925C3A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2481-0FF5-40C2-8A4A-629960F9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3042-8456-44D8-9C72-FD9B6695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349E-DC2A-476D-B11B-DB158588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FE48-E62E-4FC4-B2A6-B97CF36B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0867-9466-41DB-A2C5-7E226AAEC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3855-958F-494A-9638-D25C8309E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C6C2-7695-4B28-B118-CDD2603F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7B35-E018-4A9E-9FC0-9BF506FD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367D-5435-4914-8440-51DCB463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7ED4-7894-4CA2-9BAE-CAB776C7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926B-0DE4-4910-B650-BC86872A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91CD-22D3-4373-ADB6-B166A26F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8C4D-B450-422F-B1D9-16A37B45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7C33-E45D-4876-8DFC-26DF6DB465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240D-4934-4986-8809-4F999B9794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9 ГОД И ПЛАНОВЫЙ ПЕРИОД 2020-2021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33:04Z</dcterms:modified>
  <cp:revision>43</cp:revision>
  <dc:subject/>
  <dc:title>Структура собственных доходов на 2016 год бюджета Дальнереченского городского округа</dc:title>
</cp:coreProperties>
</file>