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846A6-1CFE-4A8F-BEEB-D3913CF67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03FA5-59C1-4942-AB74-ED774B1D2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95995-D315-4A7F-9E92-F5EE82F3F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F63BC-BFDB-4BBB-92ED-11B91B254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1C654-0B24-4491-9B1B-2D7A75188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7FF22-CBAD-4A80-9EDA-364D73A30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FF0EB-4E85-411B-81C1-4310DF751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2AB64-3BEA-41EF-8884-C7C66CDE4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132E5-4A33-4187-8991-753202436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5C0A0-CCA4-45CE-A69B-37D478C80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D44A7-FB95-414E-A0BC-F9D455B19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02FA3-35A1-4117-9161-3D2582677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9012C-89EA-4F8A-BE0F-E1890B5AA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EAB9E-8EFE-47AD-84C0-068711283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50C3F-F25A-424A-8B24-AB1F643AA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A901C-6771-490C-90D9-3BE1BF704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AD10F-979E-4E8B-8B65-9A8723C4D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46A8B-7522-4749-B3BB-067FBBE27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26438-7107-487B-A472-6A8C78D56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9DE31-342D-46FC-9ED2-D1638D26C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7B7DC-7DCB-4046-8117-A08E489CA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B6243-9DC3-44F2-877D-C01EBEEC9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5C7B4-3705-4AC4-8FAE-FD35D00CE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44C0B-E846-4D5A-B820-A2DE3E68A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90600"/>
            <a:chOff x="0" y="0"/>
            <a:chExt cx="8686800" cy="48906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21640"/>
              <a:ext cx="8305920" cy="182520"/>
              <a:chOff x="380880" y="142164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2164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796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69040"/>
            <a:ext cx="19810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6544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75DF6-C80A-4DFA-AFA3-B5831402171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9096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58720"/>
            <a:chOff x="0" y="0"/>
            <a:chExt cx="8763120" cy="595872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14320"/>
              <a:ext cx="8763120" cy="2444400"/>
              <a:chOff x="0" y="3514320"/>
              <a:chExt cx="8763120" cy="244440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14320"/>
                <a:ext cx="77724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43280"/>
                <a:ext cx="764856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895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4600"/>
              <a:ext cx="8077320" cy="304920"/>
              <a:chOff x="635040" y="534600"/>
              <a:chExt cx="8077320" cy="30492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4600"/>
                <a:ext cx="2438640" cy="3049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688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6240"/>
            <a:ext cx="6629400" cy="221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69040"/>
            <a:ext cx="190476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65440"/>
            <a:ext cx="289548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C0EAB-5C9B-4D71-A5DD-A597EC72F27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6" name=""/>
          <p:cNvGraphicFramePr/>
          <p:nvPr/>
        </p:nvGraphicFramePr>
        <p:xfrm>
          <a:off x="825480" y="1577880"/>
          <a:ext cx="5118120" cy="495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5480" y="1577880"/>
                    <a:ext cx="5118120" cy="495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86920" y="343080"/>
            <a:ext cx="7417080" cy="10080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en-US" sz="1400" spc="-1" strike="noStrike">
                <a:solidFill>
                  <a:srgbClr val="330033"/>
                </a:solidFill>
                <a:latin typeface="Times New Roman"/>
              </a:rPr>
              <a:t>ПРОЕКТ «СТРУКТУРА МУНИЦИПАЛЬНОГО ВНУТРЕННЕГО ДОЛГА НА 2019 ГОД И ПЛАНОВЫЙ ПЕРИОД 2020-2021 ГГ. (млн.руб.)»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6156360" y="1638360"/>
          <a:ext cx="2232000" cy="3379680"/>
        </p:xfrm>
        <a:graphic>
          <a:graphicData uri="http://schemas.openxmlformats.org/drawingml/2006/table">
            <a:tbl>
              <a:tblPr/>
              <a:tblGrid>
                <a:gridCol w="22320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ы заимствований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едиты кредитных организаций в валюте Российской Федераци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юджетные кредиты от других бюджетов бюджетной системы Российской Федерации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00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униципальные гарантии Дальнереченского городского округ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user31</cp:lastModifiedBy>
  <dcterms:modified xsi:type="dcterms:W3CDTF">2018-11-07T05:33:04Z</dcterms:modified>
  <cp:revision>43</cp:revision>
  <dc:subject/>
  <dc:title>Структура собственных доходов на 2016 год бюджета Дальнереченского городского округа</dc:title>
</cp:coreProperties>
</file>