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ABEB-8981-4C4E-A0B8-E8132EE39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1462-B62B-47B5-A011-25E33D29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8272-3919-45A1-BD92-03ED6C93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5708-80C0-4D5F-910A-E333F2B9D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31AB-6C8C-48CD-8F77-A852B0F7D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5B89-0404-43C9-9605-D985EE07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9408-EC63-4BCF-80D8-488D7F48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EE1D-2881-4DFB-89F1-ECDD1375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32AC-9C84-4521-A60A-7BEACDB0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8E6E-E51E-4707-94C3-F9375077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7DF4-5A1B-4D10-AA5F-CA6B0AAF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A976-972C-44E5-BC4A-1BE300DA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0610-52D0-4341-9160-2912FFC8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D738-1EDA-45FD-B391-4B252818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D655-97AF-45B0-9535-0EBFBD85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1AB9-9CB3-4EDA-AAD7-0C65EF62F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71C0-8EDD-44BC-9C63-5B110003D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4AC9-1F04-4E6D-8F7B-09DF2889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5B62-BAFB-4447-BB3B-0C2D49C6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9ED3-FC42-4213-8AD6-A90E344F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7E0C-53F2-4862-883B-7997B53B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9092-69D6-49A1-9445-6825F079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57FF-797F-47CE-89BA-25B24DD4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0A84-7290-4988-AB77-7F402ABA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2B56-7C90-4F83-A5FF-AC4CAA1BC7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3107-B9FB-40A1-8E96-78215E28F4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9 ГОД И ПЛАНОВЫЙ ПЕРИОД 2020-2021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33:04Z</dcterms:modified>
  <cp:revision>43</cp:revision>
  <dc:subject/>
  <dc:title>Структура собственных доходов на 2016 год бюджета Дальнереченского городского округа</dc:title>
</cp:coreProperties>
</file>