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7152-3F3C-49D1-8DAF-02EBDEDA9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CC64-548B-4D30-8AD7-969869AFC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273A-8C45-4558-B594-5F5BEC007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476A-DA62-4535-B72F-B77F043E3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79B67-E363-4C6C-B9CA-526FB7279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BD401-70D2-4912-9D0A-B48D5D6FC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7E880-6456-4F05-B20F-CB8E1CCE7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9E569-F7C7-4D47-82AC-7D26FAFB4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56B46-E626-45AE-8859-1CA990713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DFC55-FCFD-4B53-A399-22F1CFBE4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7F98C-4CDC-4D84-AA1C-9268DAB9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0734-F81A-46A4-8A5B-F48ACF25A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D0D46-3FC1-4EC8-AB17-694AD68B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DAA47-E6AC-4D69-95B9-00598718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78F7A-B1DD-4E4E-8D54-ECDCB9B55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26AFB-A1F5-4ED6-BBAA-0F6CFEB2E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FFD3F-2186-4C10-AA46-533F79968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70E6-FC97-44F3-8CCE-1E84F9B67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6B8C-1B88-436A-AE87-BDE16CDF5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627C-836B-4739-A8BF-F4740C434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3907-4F2D-4C20-80D3-D8A2A5A0E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4B09-CE29-46A7-B252-905D6681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81B0-7987-402D-B07B-C6C3A6F6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D56B-8513-4221-9E78-CF525E49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2C066-8BD2-4E9A-B111-67627C7991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58D5-C1D4-4BC0-9493-154A0C03A0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22840" y="256680"/>
            <a:ext cx="7959240" cy="52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ИОРИТЕТНЫЙ ПРОЕКТ «ФОРМИРОВАНИЕ КОМФОРТНОЙ ГОРОДСКОЙ СРЕДЫ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иоритетного проекта - создание условий для системного повышения качества и комфорта городской среды на территории Дальнереченского городского округа путем реализации ежегодно (в период с 2017 по 2022 годы) комплекса первоочередных мероприятий по благоустройств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МЕРОПРИЯТИЯ, НАПРАВЛЕННЫЕ НА ДОСТИЖЕНИЕ ПОСТАВЛЕННЫХ ЦЕЛЕЙ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Благоустройство дворовых территорий и мест общего пользования», в т.ч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дворовых территорий многокварти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лых дом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мест общего 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Обустройство территории городского парк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роприятия осуществляются в рамках муниципальной программы «Формирование современной городской среды Дальнереченского городского округа» на 2018-2022 годы, утвержденной постановлением администрации ДГО от 31.10.2017 № 8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ОГНОЗИРУЕМЫЙ ОБЩИЙ ОБЪЕМ ФИНАНСИРОВАНИЯ ПРОЕКТА – 261,97 МЛН.РУБ.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Т.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12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федеральн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95,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99,97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796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краев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2,4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10,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10,91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12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средств местного бюдже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0,6 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2,6 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2,7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796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овое участие собственников помещений в размере не менее 5% от стоимости работ по благоустройству в рамках минимального и дополнительного перечней работ  и (или) трудовое участие в 2018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ОЖИДАЕМЫЕ РЕЗУЛЬТАТЫ РЕАЛИЗАЦИИ ПРОЕКТ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166 дворовых территорий многоквартирных жилых дом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5 общественных территорий городского округ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устройство территории городского парка Дальнереченского городского округа – площадь обустроенного места 28600 кв.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31</cp:lastModifiedBy>
  <dcterms:modified xsi:type="dcterms:W3CDTF">2018-02-02T01:06:5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