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5EA7-AA69-4D38-B2DD-6076150449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3BEB-B6B2-48C7-AE72-9D64EE63EDE4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A439-7CC1-478E-9E28-EECC240B8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1114-1202-4A90-BBC8-EE15CD6A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77F9-4881-43E5-AA76-95478A0FE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773B-B013-4C9D-A572-71C89C994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D33D-70D2-4260-BF60-99D4DD589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1AFF-7A22-47E0-BC7B-742B87C6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62D2-49EC-42F6-9398-771EDDA9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0D48-DA2F-4579-9706-2471122E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3AED-7371-4DB7-B4A5-9B3BD0EB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1B3C-6867-4024-8843-52651E6D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143E-B84F-4CFC-A30E-90FDA466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8BC5-D134-4FB1-ACAF-5600308C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EDA4-BF15-4F9E-A6D0-5E7D8DBF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DAA0-A2A7-4D8F-8226-19C2D05C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0036-2336-45E2-901E-9029A751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FCC0-1BB1-4929-8F5E-1CFD3704D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BF66-6B44-420E-B2CE-D6114D6C5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8B769-AFD2-4646-A6CF-5DB2A0D0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E9FC7-F479-4C61-95D2-6B37A300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81F57-A9AF-47A6-8359-E57E1E0C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28FA4-E060-4986-A02F-0B8B9F5A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D51FB-7721-4148-9F89-B1F4D3E1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14C8-3E86-4655-98DA-AE028698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99525-B393-46D5-9277-DC7E4E23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37E7B-13C3-4300-9E14-49CEB13A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10C67-95A1-4A0E-8129-D107F178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C1DD2-31D5-4265-893A-CEC71D23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617EF-A5A1-4A18-93EC-33AB6B5C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3373E-B08B-46C6-B6E9-20DDBD420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2A06A-583C-40AA-9481-24137C3D7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55BD7-4A89-4C71-BCCF-BA127E248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FED56-6910-4338-A4ED-FA8B4500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CAD91-A345-4E7D-99EC-7535957C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ADFC-FA68-4F66-96A3-431AA6E7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3AD76-8308-46CC-92D5-F6ED0FD4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D304E-D9D0-4C8C-A9DC-AD26F648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E14A7-DC09-428B-BFA6-116AE7AC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BF286-100D-4DED-A803-C63DEB67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F8EF0-CE26-4D98-BFDD-D72086C3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3402C-0340-424D-AB2F-2D73EFC9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01E1D-5907-4EC0-94BA-7536A461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8FD28-484F-49F0-9375-3245C7F60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FAC5C-1549-491D-B7A9-7BA3A3297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0EDBB-2B43-4092-835E-206E3693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AAD5-8BFD-4DD2-AD83-09CF56B5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1021A-3E2A-4D28-BA1A-46FB88FF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59A51-EF27-430D-923F-4D805D74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72EB4-F902-4B94-BDF0-5A047D00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C10DE-ABDE-471C-B2AE-CA3C50F0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5C37F-F69E-4BDC-9C62-8D673DEC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2C59F-2257-48FC-BE70-36133106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2D1BD-6A01-4F63-B132-B5513DA6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6B4D4-AF80-4CA2-8F86-20F72781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A71FD-603F-4871-9B25-547CD11F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B3377-B215-419A-97DE-2816EBD52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FB51-DA1E-416A-A9C1-7E5FB4EC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3EA38-34E0-47CA-94E0-6B3932789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65F61-2F19-4777-A697-94FB98322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6177D-051E-4A8B-8A82-EF3B71A9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6CF79-B07F-414F-ADBB-4CC28857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BB756-0209-4A72-BB34-6E5C827B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E0FA4-91C7-4896-AB7A-B120C225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7F08D-5D7A-4213-A1E4-1F0E9C23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29990-35AD-4271-8C21-6A95E4A7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E25CF-EF37-4440-8213-766DAA5D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B82B0-1FD0-4573-8839-1B68C0EB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A5C6-7E1D-484C-9BC5-EBF05D91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460C3-5C08-4238-A879-4FB54A8B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840F8-76B3-4D8E-BCC7-FC0D9CB6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3065F-6617-4E38-9651-D4029732C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ADA7-6380-4893-BE65-03C3907E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44BA-8FC6-491C-AB3C-AE26C7A7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BE0E-0DE1-486B-8EE2-920719147FF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AA8E-2B95-4084-A3B2-E20324D7705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6BD6-2F33-43D6-BB44-D24B197965F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2679-EC88-4B84-A8FF-A1315F07CBB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E145-4529-47D8-A509-7C774A3EEC5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37C7-DD82-438A-B4DD-FD928F31CCF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507816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4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оздание в школах, расположенных в сельской местности, условий для занятий физической культурой и спорто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46Z</dcterms:modified>
  <cp:revision>161</cp:revision>
  <dc:subject/>
  <dc:title>Структура собственных доходов на 2016 год бюджета Дальнереченского городского округа</dc:title>
</cp:coreProperties>
</file>