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6D45-2F06-4C98-8622-F5768781FE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E939-C564-4710-825D-47907D84DEB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7F7A-AC85-4A93-9F7F-5E714F0EB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6C79-E0A8-4A14-A23B-5E40240A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1E40-056A-4D50-85EC-7F1735108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4854-A782-4C5B-82B8-5E35FE71D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BBF7-D29F-4F76-95A9-CA4E0755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78EB-7C87-4921-9F21-80B299C7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9142-6AA0-43D6-A384-A09C19D9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069C-5BAF-41B0-94D6-DFDC528B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1BAF-FBEC-4F1A-80CF-0DCDC396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0737-A9A5-4BD1-A7C1-647EA556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7C69-611B-4379-AE00-26761368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C821-4D71-43CB-9C95-A42E79BF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9C2F-CB07-49C1-AD53-369D95C8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E395-3B16-49F4-BA7D-B9CBF7E3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6F33-091D-4E0A-A001-A01B0FAB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84EA-ED20-4FAC-925D-B783EF687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D115-4B41-498F-8F6D-7A2B5DD0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A9410-31B0-4B9D-9E47-B78D614D9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9E06C-19B6-43F0-9C10-268ED346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44A37-DF6A-49E7-8E81-D2D78279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0D9FC-D38B-4B61-BB44-9CF55FAB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11C0A-A041-4C5B-9948-2BFA4EE8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9EFF-B274-4D09-8620-A3B5BD2B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DAEE2-ED59-49E7-B006-9D028FBE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73F2C-B19E-4854-BFAC-F05EA693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E311D-5897-4B59-8918-18F33402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773E9-EB80-49C7-9B37-ECC7B019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244BA-B0AF-4400-99D3-248BB92D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950CF-98E4-4242-8B04-D1C011D1F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2D200-EBDE-4B73-A5C3-4E8D6733C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A42F0-AB82-4A95-B63A-C7CA963F6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853EB-2235-4EBB-85CF-B5AD99A8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BE579-8AEE-4396-9AF6-BB55C61F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119E-18C1-44E1-8451-EBEBE5E5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BBFB3-161E-4FB6-B5D5-A1CE03A6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6FE18-8D9D-42C8-95DB-6F4E4EBD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824D0-5F25-4835-B88C-54B17CC8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11FFB-ED4B-40E1-91D3-F577C69D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D99E8-49BC-4502-BA81-00D28A55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A04E3-EFC4-4923-AFD5-F082403F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4F2D1-5C06-43BD-85C8-F19B12C6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6DB9E-F18E-4A4F-9972-1E56C87E1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6F659-8FA4-489F-9ED0-4B2ECED41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96DE0-738C-4BD4-8999-1B2BE80D6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42A9-E7EE-4B25-8D85-D8752D67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814BE-4E25-43F2-9FDA-ADDD939D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F92C8-F4BF-4FBC-A8BA-BACEBB44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DD268-9B3F-462E-BCE5-5CFC16D0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2F96B-FDF4-4A70-968B-4350E075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A1D47-A56A-40B0-8EBD-D0B995CA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660A5-7F6F-460F-8ACF-9DB08006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745EE-D0AC-4F0D-A1C0-6FA23622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D0828-6DCC-4A40-B26C-4739E835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D79CD-ED83-4DDA-9BCA-B5F36482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DDB27-AD9D-4341-AC69-B84FE3AD5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3E86-50A2-4035-8718-BE17893B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F0BD5-A63B-4B02-8A4D-F25BB80B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8FD5E-1129-4CE6-BEDB-B9ED44CF4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C8C5F-8D53-49BF-8F4B-E08779D9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8DAC6-8EB8-40EB-8F2D-277EB320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73A90-A1D7-46FE-A31C-6C8BF348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F48E9-1FC4-4E79-8C71-4933F0B2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4E177-379A-46E1-8EFE-3B3F4A6C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452A4-F83F-411C-B789-509EC065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93145-5604-464B-B2F5-54D2246C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C9986-42EB-4AE3-ABB7-2C4144DD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9A07-B9D6-4D1E-8CFE-1D645400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3C59E-21C5-4EB5-BB9C-48B8F765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F755E-AA80-4B8E-809C-AF404D748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FB786-D352-4BBA-A54C-B7C4966EF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8397-7525-4B7B-A534-AEB0B37B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447B-3C67-43C7-A266-CA8A6BD3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B351-A30D-47A0-8C7A-553E08351F2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209D-E302-41DE-8474-25E3100B8EB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806C-0C47-4A21-9253-0A7AD772A0B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A943-913B-4DA9-B459-7938107C1AE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F0FA-F8FB-4312-8243-56D25D3BE48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3480"/>
              <a:chOff x="637560" y="534600"/>
              <a:chExt cx="8109000" cy="30348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3693-458B-449E-8A50-16B8C63D319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7777080" cy="533376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5025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7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7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6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2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0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778320" y="562320"/>
            <a:ext cx="7866720" cy="105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757,69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5" name="Object 4"/>
          <p:cNvGraphicFramePr/>
          <p:nvPr/>
        </p:nvGraphicFramePr>
        <p:xfrm>
          <a:off x="1130400" y="2133720"/>
          <a:ext cx="708660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2133720"/>
                    <a:ext cx="708660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19 год – 465,39 млн.руб. (местный бюджет – 153,62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311,7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8" name="Object 4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67,6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1" name="Object 4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 на 2019 год - 8,23 млн.руб.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на 2019 год – 3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4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22,57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7" name="Object 3" descr=""/>
          <p:cNvPicPr/>
          <p:nvPr/>
        </p:nvPicPr>
        <p:blipFill>
          <a:blip r:embed="rId1"/>
          <a:stretch/>
        </p:blipFill>
        <p:spPr>
          <a:xfrm>
            <a:off x="1068480" y="2209680"/>
            <a:ext cx="7284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1,99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32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41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35" name="Object 3" descr=""/>
          <p:cNvPicPr/>
          <p:nvPr/>
        </p:nvPicPr>
        <p:blipFill>
          <a:blip r:embed="rId1"/>
          <a:stretch/>
        </p:blipFill>
        <p:spPr>
          <a:xfrm>
            <a:off x="1284120" y="1981080"/>
            <a:ext cx="71326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ОТДЕЛЬНЫЕ НЕПРОГРАММНЫЕ НАПРАВЛЕНИЯ ДЕЯТЕЛЬНОСТИ ИЗ МЕСТНОГО БЮДЖЕ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2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495612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741,3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Object 4"/>
          <p:cNvGraphicFramePr/>
          <p:nvPr/>
        </p:nvGraphicFramePr>
        <p:xfrm>
          <a:off x="1130400" y="1231920"/>
          <a:ext cx="7022880" cy="50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1231920"/>
                    <a:ext cx="702288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" name="Object 4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598320" y="310680"/>
            <a:ext cx="8109360" cy="567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3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632720" cy="1000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9 ГОД (757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12" name="Object 4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59Z</dcterms:modified>
  <cp:revision>177</cp:revision>
  <dc:subject/>
  <dc:title>Структура собственных доходов на 2016 год бюджета Дальнереченского городского округа</dc:title>
</cp:coreProperties>
</file>