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73BC-0802-49F9-BFD6-023E7BA27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30CA-52C4-4775-A4AC-4D31968A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2452-2AF7-443E-88EE-9B5C56B97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D0E1-7A38-4075-A6F0-F8FDB26D9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2ED4-51B6-4656-B867-19DD8AD50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A5E4-A879-49DA-B64D-34579D1A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3A8E-7E98-4176-B0F2-F31BAED7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7080-DCA2-4568-8678-2151999A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5208-8321-4217-8EF5-BF87C6DA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5FF3-81D0-470B-9883-6F23F38A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F5E6-233C-42F1-A8C0-FC5025D0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CD1C-9469-4025-A22F-6637E324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FDE8-2FFF-4A07-8095-35CD209B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768F-1957-440D-9248-E104011D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ED5E-F43E-41D7-9C44-448A9945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ACAE-44A4-46A5-8B23-5D3FCF210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A1BD-424C-495A-8DBC-E3CC2D24B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9249-42E3-4DF5-9907-D24D9075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074E-E3B9-4453-9EEA-325057DD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3CD1-6AE2-4A6D-9757-C0F8E306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8825-0A0F-436E-95A4-592248C5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0BB0-A431-4A34-848E-ABED9331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AD2C-2E5E-4F98-8560-56B5F80E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FEA4-CEBA-4C15-9373-572299FD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5222-0848-4CCD-BCAA-560BBCBE80C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31C1-9011-4B06-918D-B20A003E374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4"/>
          <p:cNvGraphicFramePr/>
          <p:nvPr/>
        </p:nvGraphicFramePr>
        <p:xfrm>
          <a:off x="831960" y="1577880"/>
          <a:ext cx="510516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577880"/>
                    <a:ext cx="51051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9 ГОД И ПЛАНОВЫЙ ПЕРИОД 2020-2021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3:46Z</dcterms:modified>
  <cp:revision>46</cp:revision>
  <dc:subject/>
  <dc:title>Структура собственных доходов на 2016 год бюджета Дальнереченского городского округа</dc:title>
</cp:coreProperties>
</file>