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D3FC-9C7F-499D-8E4B-AFADDC78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7808-A9F6-4F9D-B322-E75F0D4F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510A-5F13-4E1E-87CA-81133CFDC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3F33-8111-4BE4-B9F4-5FC049962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F424-258E-475F-82DF-EB4AC777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458D-1EA4-4E52-8627-C4598138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A0BE-3AD6-420D-B52C-A971A187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2D66-E5D5-4168-BD1B-8CD67385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F0A8-732D-4100-80F0-20BD53B6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380D-C6DC-4E71-B8BF-AF7FE83D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6E03-A218-4EDC-954D-CF12853C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52D3-2212-4335-BB7C-73BA5056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E92E-199E-47D5-BB28-07F5A7E0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3BA1-CEE9-42A3-8E73-4FD69862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BAD0-BD8B-4340-99B2-2E9FA198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797A-93E0-4225-A7CE-A4841D55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3859-D51E-4086-B819-BDA1B1FD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33A1-D7CF-401D-81C0-C93DDD49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B809-9350-4202-B64F-5C121F26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0E55-B9FD-4726-B5F3-AF753991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9B13-2225-48F9-9EC3-2918C0CF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F18C-EB2F-43ED-A29C-06394458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B688-9544-41E6-BB66-5B106403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9943-B3F6-4753-A7E9-00AF5947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9398-E0AE-4A2F-8365-BC67CA19870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B267-5F3D-49C6-8636-15D30A2113B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0 ГОД И ПЛАНОВЫЙ ПЕРИОД 2021-2022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30:08Z</dcterms:modified>
  <cp:revision>44</cp:revision>
  <dc:subject/>
  <dc:title>Структура собственных доходов на 2016 год бюджета Дальнереченского городского округа</dc:title>
</cp:coreProperties>
</file>