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6538-1E55-4052-B05B-303A26515A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C3DA-873C-449F-8EED-C7BFF804C237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1F4C-468D-467D-AA9C-0ABC071E8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A55B-C825-4B35-99A3-10EBE0CD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7628-7781-4DF2-B2A3-1522BB1DA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CDCA-F70A-4ECE-9515-5993B2451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86D6-5605-4091-95F4-B671BEBB9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DFB26-6010-45C3-AB26-072F1981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AB2D8-489D-42A8-99AD-88D44D26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657F-2FF6-4281-BA88-1FC39E8D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EB6FB-5665-476C-97A6-5EACDC97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64E6-DEAB-47BA-A61F-FA7DBDE1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E067-CCC0-420E-80E7-B8A55218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F752-763C-44B4-983B-7469A97C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450FB-4857-4872-8F67-B6289E3A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AAE1-E0ED-4402-A4A4-0197094C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D4BF-1658-4B08-B803-78708AA3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7C68-F10D-4388-AB54-BE5B3DC12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CC17-848D-4867-A944-4236E8845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63CCC-B8B2-4F86-A881-6D699D482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002FD-E42C-4ADE-BBC5-8E8C376B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75309-E156-4C63-81BA-29A64D1A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3B1ED-707C-41B2-93E5-68A5CA5D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CFA8A-2CD9-4453-8D8A-74CE1B9F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4AB7-01FE-40BA-A9B5-9C3DA677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2DE23-09F6-49AB-A3D0-0A3A608B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DB1DF-F178-4F57-960F-2079E759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9B5E0-CD28-48DE-8926-0A010975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21A48-87DE-4185-BAEB-B9A21321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6A68B-FBB9-442A-90EB-63C9A86D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BDA68-B531-4324-BEEC-E776A3174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0476A-26EF-464A-9CF3-F48BEBC4F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3988B-7437-4071-BABE-AB10746B5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945D8-F2F6-4453-B77B-04C679BF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8538C-5354-4FFA-8643-1D25512A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1BE4-F888-4E4A-865A-95D44306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47F3D-9ED2-4EC3-BBE7-0E95B9A2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3355C-9E54-4FA6-88B9-CD4821EE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5F147-0BCC-4DB0-9914-E24101FB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62AC8-4343-4CE9-9555-CC6958DE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94207-B9FC-4A2F-8EB3-730DA8B8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C8C42-5CE6-4DEE-BC2B-C12FC29A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A5363-128F-4463-A2E8-5ED47B77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267A4-CBF3-4B41-A04A-58216669F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46B4B-A135-4135-B84F-B93ACE82D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83864-8628-4A2C-9299-8E70D7D31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76BB-090B-432F-99DD-78AEF400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1C11D-0B4E-4DB2-8799-7236615E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D183C-D57A-44B5-8F48-7A064969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AD11F-9616-434B-BEEE-65465DBB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19D20-5081-4FC9-BE68-153FFA46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C48CD-3BAA-48CF-A3AC-A25469A0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C7012-D750-400E-8E79-FE4BB96F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4CE1D-66B3-45F3-A92A-0038A383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0F7E0-0D5A-4135-BEB1-066CDC07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9670F-45CB-4ED3-A7A7-C203FCF8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6BC77-4EB4-4FDE-8C8E-B8DE0E7E1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B578-B6A4-4F12-B3EA-637DAFF0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83A2A-9D0A-4997-93CC-C9E3D0AE4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E0BBA-EDAF-4CF1-AC71-D1057AB22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A5973-47DC-4ACB-BABD-7EA76AAA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8EB89-A60C-4416-AEEE-3270FF8F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405F6-BBF4-445C-8B7D-C7D9F575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94942-CF02-4235-8686-C83FBAA5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260C6-0CBC-4C09-8671-89B050D3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93F47-6154-4AF7-98B9-21973A2C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AD183-0AA1-43A9-9D3D-3F5A62ED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E0D19-178A-456A-B4DB-6F86D2E1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4497-4122-435D-B60C-3E95B964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C623B-20F6-4741-9B6E-8ACF47F6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69DE6-01D9-4B26-831F-58E9D20C2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5C999-DFD5-4F56-B3B2-DF71C27EE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B572-046B-4322-A77A-E51B13D3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C1C0-A09F-4CC4-AD66-EA9FE42F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5C14-AF43-41AA-AD47-384B6B8A669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9180-026F-4146-B7C4-733ECFE73B9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5B02-2908-4968-8EE7-44D036DCC9B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9196-38F9-4AE3-93C2-8500115F8B7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AF0A-BC5B-4970-B4B3-4E553026677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8800"/>
              <a:chOff x="637560" y="534600"/>
              <a:chExt cx="8109000" cy="2988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88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A6B8-C0BF-497E-9F5D-1C45600737E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474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88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14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0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782,15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0 год – 448,61 млн.руб. (местный бюджет – 178,44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70,1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73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0 год – 21,77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1,8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20,12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7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ЗАЩИТА НАСЕЛЕНИЯ И ТЕРРИТОРИИ ДАЛЬНЕРЕЧЕНСКОГО ГОРОДСКОГО ОКРУГА ОТ ЧРЕЗВЫЧАЙНЫХ СИТУАЦИЙ ПРИРОДНОГО И ТЕХНОГЕННОГО ХАРАКТЕР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 год – 11,26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1,6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82680" y="1892160"/>
            <a:ext cx="72900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по состоянию на 01.10.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.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.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630360" y="123516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 (по состоянию на 01.10.2019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5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5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990720"/>
          <a:ext cx="8567640" cy="624528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по состоянию на 01.10.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-менной городской среды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ГОД (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768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ГОДУ (3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9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0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ГОДУ (302,1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 по состоянию на 01.10.20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7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5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5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ГОД (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78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,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15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11-27T00:23:01Z</dcterms:modified>
  <cp:revision>213</cp:revision>
  <dc:subject/>
  <dc:title>Структура собственных доходов на 2016 год бюджета Дальнереченского городского округа</dc:title>
</cp:coreProperties>
</file>