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</p:sldIdLst>
  <p:sldSz cx="9180513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sldImg"/>
          </p:nvPr>
        </p:nvSpPr>
        <p:spPr>
          <a:xfrm>
            <a:off x="1141560" y="685440"/>
            <a:ext cx="45748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44DB6-AFD9-4F95-BFAD-62219AE2EF2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12028-3A03-4546-924B-2EDB60FFE6A8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488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69BD1-D014-4D82-89D7-47890B3CD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2EFB8-E759-47E5-92DF-F733C635C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488CA-8B3F-4C45-B356-5C2E9BABE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ADDDD-EF50-40D2-999D-E2AA5C3A5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9E800-F2BC-4DB6-88C3-35F4B66D6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44FB4-BE4F-454D-963B-1D55D82CA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F537A-756B-4904-A156-AA6632A61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64827-2376-48A6-A1F3-66BC4B9D0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0EB40-589E-448D-AD07-230CEB4E1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21ED2-2759-464E-8A27-72924C02F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1F8AF-22E9-4E95-A099-7C01F9378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706CE-0EE4-41EB-B58E-094D37EB4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19E64-0173-44F9-B890-8957C5E14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DA208-5B10-4713-8404-509500374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F32A9-0C89-4CD1-848E-58B703F0D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992C1-CBCD-4025-AF6B-33DBB6818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31E2E-C537-4EA5-BA68-16A50BC3B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1F4631-D5BA-4822-BAD5-E58E25730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B912DA-D011-4744-9C08-29704D1FC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465220-FAE6-4360-9A5C-1BDFCA4FD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08F011-9242-4F83-84D6-F0098D1D2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9777D1-EB62-4574-88AD-915C29F46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3EE7A-1F87-4B41-92A2-ED754F2B1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A68065-47A9-4AE7-BB7E-88D632673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9AC74E-ECFC-4954-8126-F1595BCC8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B05B41-024F-4648-BE98-961DD83FD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376CF5-09D0-4F68-AF23-D2911DD39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1B1995-7973-4261-B27F-326B643F1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E03AE4-B5FC-4E06-9AD8-F0A550CBE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2ACA68-B59F-4377-B3C1-8A68A37AE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345C7E-7C07-4ECE-B350-DBFADCF81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0A60C9-CA94-4176-AFD3-FAEC86E6D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61CDB7-A68A-44A0-9B69-DB1817D0D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7EA20-0AFC-46FC-8617-2BD783BC9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0921C2-D1BF-43C5-ACCF-ACC483F29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12F26F-5F61-469D-9937-D78CA484C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E8B17A-61FC-4196-BB42-A6FDBDE24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FFA599-A7E3-44A2-9193-8DE310885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E5D7FA-76D5-41A2-AE7F-AD8208B28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236C0B-56C1-4BB0-AD73-5C8B0B85F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D91A71-77A0-46AA-9A32-701F1E9DD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975D4B-A880-487F-AF95-40DFE1665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4E9B5C-A7DB-4FEB-8B8D-FCACF6698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775D8F-E030-4BD7-A161-9695ABD96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6E6E4-AE54-4C60-A13D-C2BBBB0A4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FD7255-B2A1-49E6-8BA2-44C2C09AD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4DAEA3-E319-4E70-8B02-A30813BD5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2BCF0E-0D5A-4BF9-A50B-0D8CA2E5A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175DCC-E8C9-46EF-866E-AB4771FEE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A24B67-AE84-4950-9354-95F601F86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63B0D3-5854-427C-8C66-E6433CEED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BEAF6D-82EE-4A91-A815-C3F7E3DBF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9FB7FE-CFD8-4081-9603-8A0B7632E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0B3751-BC53-4105-80FD-5717BE529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10B4D9-8CC6-435F-B9D0-60A8B6243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FEE4A-1C1C-4AD0-A2F3-EE68B6DBD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3C65A1-0D28-49EA-84E9-8D7D384FF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0308A3-7060-4A93-8C03-C768BA171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B6D098-E243-4B32-BEF6-FA90A48F4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787A57-260C-4AFE-84C7-50EEB5510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0CD42E-0E61-48A1-B8D9-B6E49FC10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CD5913-1660-4CE7-8DC1-D0D38DC65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5D3AE0-629A-438C-A294-6890C9C80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F27E06-E3DF-4171-9A8A-AE1C14CDF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AB5E3D-8D67-49F6-AD73-7A09245AA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E3E92F-125C-453F-959F-734108A71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66406-41DE-4B09-BF3E-C0A4569F0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F70D2F-4364-461D-9BF1-025917592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0B0ADF-6397-4D18-A478-90FC9A2A6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357C99-AF1E-444B-B125-9A0CC3A74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0964E-607D-4254-8B78-932B8460D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A7599-6A68-443A-8D59-E070AE68B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49280" cy="6876360"/>
            <a:chOff x="0" y="0"/>
            <a:chExt cx="7649280" cy="687636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12280" cy="6876360"/>
              <a:chOff x="0" y="0"/>
              <a:chExt cx="3212280" cy="687636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5000" cy="687636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8640" y="0"/>
                <a:ext cx="2753640" cy="116964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9320" y="1986480"/>
              <a:ext cx="7419960" cy="319680"/>
              <a:chOff x="229320" y="1986480"/>
              <a:chExt cx="7419960" cy="31968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11640" y="1986480"/>
                <a:ext cx="7037640" cy="31788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9320" y="1986480"/>
                <a:ext cx="395280" cy="31968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4240" y="6259680"/>
            <a:ext cx="590400" cy="490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C8C79-8687-4EFB-8F2F-52A0BA3EE508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152280"/>
            <a:ext cx="8721360" cy="6113160"/>
            <a:chOff x="0" y="152280"/>
            <a:chExt cx="8721360" cy="6113160"/>
          </a:xfrm>
        </p:grpSpPr>
        <p:sp>
          <p:nvSpPr>
            <p:cNvPr id="49" name="AutoShape 3"/>
            <p:cNvSpPr/>
            <p:nvPr/>
          </p:nvSpPr>
          <p:spPr>
            <a:xfrm>
              <a:off x="382320" y="534600"/>
              <a:ext cx="8339040" cy="573084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0" y="152280"/>
              <a:ext cx="8568720" cy="122256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" name="Line 5"/>
            <p:cNvSpPr/>
            <p:nvPr/>
          </p:nvSpPr>
          <p:spPr>
            <a:xfrm>
              <a:off x="0" y="1222200"/>
              <a:ext cx="81097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12360" y="1604880"/>
            <a:ext cx="7954920" cy="4432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458640" y="6265440"/>
            <a:ext cx="2143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3137040" y="626544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6578280" y="6265440"/>
            <a:ext cx="214308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B53C9-087F-4E36-978A-5F142BA8CC40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2"/>
          <p:cNvGrpSpPr/>
          <p:nvPr/>
        </p:nvGrpSpPr>
        <p:grpSpPr>
          <a:xfrm>
            <a:off x="0" y="0"/>
            <a:ext cx="8721000" cy="4890600"/>
            <a:chOff x="0" y="0"/>
            <a:chExt cx="8721000" cy="4890600"/>
          </a:xfrm>
        </p:grpSpPr>
        <p:sp>
          <p:nvSpPr>
            <p:cNvPr id="94" name="Rectangle 3"/>
            <p:cNvSpPr/>
            <p:nvPr/>
          </p:nvSpPr>
          <p:spPr>
            <a:xfrm>
              <a:off x="0" y="0"/>
              <a:ext cx="61164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95" name="Group 4"/>
            <p:cNvGrpSpPr/>
            <p:nvPr/>
          </p:nvGrpSpPr>
          <p:grpSpPr>
            <a:xfrm>
              <a:off x="382320" y="1421640"/>
              <a:ext cx="8338680" cy="182520"/>
              <a:chOff x="382320" y="1421640"/>
              <a:chExt cx="8338680" cy="182520"/>
            </a:xfrm>
          </p:grpSpPr>
          <p:sp>
            <p:nvSpPr>
              <p:cNvPr id="96" name="Rectangle 5"/>
              <p:cNvSpPr/>
              <p:nvPr/>
            </p:nvSpPr>
            <p:spPr>
              <a:xfrm>
                <a:off x="6885000" y="1421640"/>
                <a:ext cx="18360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7" name="Line 6"/>
              <p:cNvSpPr/>
              <p:nvPr/>
            </p:nvSpPr>
            <p:spPr>
              <a:xfrm>
                <a:off x="382320" y="1497960"/>
                <a:ext cx="833868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917280" y="6269040"/>
            <a:ext cx="198900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3365640" y="6265440"/>
            <a:ext cx="298440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78B42-AF1A-4BDB-BC1A-0EB067C4967D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2"/>
          <p:cNvSpPr/>
          <p:nvPr/>
        </p:nvSpPr>
        <p:spPr>
          <a:xfrm>
            <a:off x="0" y="4890960"/>
            <a:ext cx="61272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" name="Group 2"/>
          <p:cNvGrpSpPr/>
          <p:nvPr/>
        </p:nvGrpSpPr>
        <p:grpSpPr>
          <a:xfrm>
            <a:off x="0" y="0"/>
            <a:ext cx="5890680" cy="6876720"/>
            <a:chOff x="0" y="0"/>
            <a:chExt cx="5890680" cy="6876720"/>
          </a:xfrm>
        </p:grpSpPr>
        <p:sp>
          <p:nvSpPr>
            <p:cNvPr id="141" name="Rectangle 3"/>
            <p:cNvSpPr/>
            <p:nvPr/>
          </p:nvSpPr>
          <p:spPr>
            <a:xfrm>
              <a:off x="0" y="0"/>
              <a:ext cx="4590360" cy="687672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2" name="AutoShape 4"/>
            <p:cNvSpPr/>
            <p:nvPr/>
          </p:nvSpPr>
          <p:spPr>
            <a:xfrm>
              <a:off x="688320" y="993240"/>
              <a:ext cx="5202360" cy="19098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43" name="Group 5"/>
          <p:cNvGrpSpPr/>
          <p:nvPr/>
        </p:nvGrpSpPr>
        <p:grpSpPr>
          <a:xfrm>
            <a:off x="3646440" y="4903920"/>
            <a:ext cx="4895640" cy="318960"/>
            <a:chOff x="3646440" y="4903920"/>
            <a:chExt cx="4895640" cy="318960"/>
          </a:xfrm>
        </p:grpSpPr>
        <p:sp>
          <p:nvSpPr>
            <p:cNvPr id="144" name="AutoShape 6"/>
            <p:cNvSpPr/>
            <p:nvPr/>
          </p:nvSpPr>
          <p:spPr>
            <a:xfrm flipH="1">
              <a:off x="3646440" y="4903920"/>
              <a:ext cx="4644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5" name="AutoShape 7"/>
            <p:cNvSpPr/>
            <p:nvPr/>
          </p:nvSpPr>
          <p:spPr>
            <a:xfrm>
              <a:off x="8281080" y="4903920"/>
              <a:ext cx="26100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dt" idx="10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ftr" idx="11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sldNum" idx="12"/>
          </p:nvPr>
        </p:nvSpPr>
        <p:spPr>
          <a:xfrm>
            <a:off x="76320" y="6265440"/>
            <a:ext cx="590400" cy="4906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958F4-81E6-48E5-BE77-E1B194F1B1BC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7" name="Group 2"/>
          <p:cNvGrpSpPr/>
          <p:nvPr/>
        </p:nvGrpSpPr>
        <p:grpSpPr>
          <a:xfrm>
            <a:off x="0" y="930240"/>
            <a:ext cx="9027720" cy="4506480"/>
            <a:chOff x="0" y="930240"/>
            <a:chExt cx="9027720" cy="4506480"/>
          </a:xfrm>
        </p:grpSpPr>
        <p:sp>
          <p:nvSpPr>
            <p:cNvPr id="188" name="AutoShape 3"/>
            <p:cNvSpPr/>
            <p:nvPr/>
          </p:nvSpPr>
          <p:spPr>
            <a:xfrm>
              <a:off x="688320" y="2075760"/>
              <a:ext cx="7421400" cy="336096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9" name="Rectangle 4"/>
            <p:cNvSpPr/>
            <p:nvPr/>
          </p:nvSpPr>
          <p:spPr>
            <a:xfrm>
              <a:off x="229320" y="930240"/>
              <a:ext cx="7191720" cy="99288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0" name="AutoShape 5"/>
            <p:cNvSpPr/>
            <p:nvPr/>
          </p:nvSpPr>
          <p:spPr>
            <a:xfrm>
              <a:off x="0" y="1388520"/>
              <a:ext cx="9027720" cy="18331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1" name="Line 6"/>
            <p:cNvSpPr/>
            <p:nvPr/>
          </p:nvSpPr>
          <p:spPr>
            <a:xfrm>
              <a:off x="0" y="3069000"/>
              <a:ext cx="833940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12360" y="1604880"/>
            <a:ext cx="7954920" cy="4432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458640" y="6265800"/>
            <a:ext cx="214344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3137040" y="627012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6578280" y="6265800"/>
            <a:ext cx="214308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FD42E-D803-450E-8EEB-37104C43BE00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" name="Group 2"/>
          <p:cNvGrpSpPr/>
          <p:nvPr/>
        </p:nvGrpSpPr>
        <p:grpSpPr>
          <a:xfrm>
            <a:off x="0" y="0"/>
            <a:ext cx="8797320" cy="5958720"/>
            <a:chOff x="0" y="0"/>
            <a:chExt cx="8797320" cy="5958720"/>
          </a:xfrm>
        </p:grpSpPr>
        <p:sp>
          <p:nvSpPr>
            <p:cNvPr id="234" name="Rectangle 3"/>
            <p:cNvSpPr/>
            <p:nvPr/>
          </p:nvSpPr>
          <p:spPr>
            <a:xfrm>
              <a:off x="0" y="0"/>
              <a:ext cx="175932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235" name="Group 4"/>
            <p:cNvGrpSpPr/>
            <p:nvPr/>
          </p:nvGrpSpPr>
          <p:grpSpPr>
            <a:xfrm>
              <a:off x="0" y="3514320"/>
              <a:ext cx="8797320" cy="2444400"/>
              <a:chOff x="0" y="3514320"/>
              <a:chExt cx="8797320" cy="2444400"/>
            </a:xfrm>
          </p:grpSpPr>
          <p:sp>
            <p:nvSpPr>
              <p:cNvPr id="236" name="Rectangle 5"/>
              <p:cNvSpPr/>
              <p:nvPr/>
            </p:nvSpPr>
            <p:spPr>
              <a:xfrm>
                <a:off x="994320" y="3514320"/>
                <a:ext cx="78030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7" name="Rectangle 6"/>
              <p:cNvSpPr/>
              <p:nvPr/>
            </p:nvSpPr>
            <p:spPr>
              <a:xfrm>
                <a:off x="1042200" y="3743280"/>
                <a:ext cx="767844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8" name="Line 7"/>
              <p:cNvSpPr/>
              <p:nvPr/>
            </p:nvSpPr>
            <p:spPr>
              <a:xfrm>
                <a:off x="0" y="4889520"/>
                <a:ext cx="9943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239" name="Group 8"/>
            <p:cNvGrpSpPr/>
            <p:nvPr/>
          </p:nvGrpSpPr>
          <p:grpSpPr>
            <a:xfrm>
              <a:off x="637560" y="534600"/>
              <a:ext cx="8109000" cy="298800"/>
              <a:chOff x="637560" y="534600"/>
              <a:chExt cx="8109000" cy="298800"/>
            </a:xfrm>
          </p:grpSpPr>
          <p:sp>
            <p:nvSpPr>
              <p:cNvPr id="240" name="Rectangle 9"/>
              <p:cNvSpPr/>
              <p:nvPr/>
            </p:nvSpPr>
            <p:spPr>
              <a:xfrm>
                <a:off x="6298560" y="534600"/>
                <a:ext cx="2448000" cy="29880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1" name="Line 10"/>
              <p:cNvSpPr/>
              <p:nvPr/>
            </p:nvSpPr>
            <p:spPr>
              <a:xfrm>
                <a:off x="637560" y="687240"/>
                <a:ext cx="810900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dt" idx="16"/>
          </p:nvPr>
        </p:nvSpPr>
        <p:spPr>
          <a:xfrm>
            <a:off x="915840" y="6269040"/>
            <a:ext cx="191304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 type="ftr" idx="17"/>
          </p:nvPr>
        </p:nvSpPr>
        <p:spPr>
          <a:xfrm>
            <a:off x="3366720" y="6265440"/>
            <a:ext cx="2908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 type="sldNum" idx="18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A01B6-BF05-43E9-A336-532CDC6847A6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526320" y="238680"/>
            <a:ext cx="7799040" cy="5648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РОЕКТ 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ОСНОВНЫЕ ПАРАМЕТРЫ БЮДЖЕТА ДАЛЬНЕРЕЧЕНСКОГО ГОРОДСКОГО ОКРУГА НА 2019 ГОД И ПЛАНОВЫЙ ПЕРИОД 2020-2021 ГОДЫ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6666"/>
                </a:solidFill>
                <a:latin typeface="Times New Roman"/>
              </a:rPr>
              <a:t>(млн.руб)</a:t>
            </a:r>
            <a:endParaRPr b="1" lang="en-US" sz="10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91" name=""/>
          <p:cNvGraphicFramePr/>
          <p:nvPr/>
        </p:nvGraphicFramePr>
        <p:xfrm>
          <a:off x="701640" y="990720"/>
          <a:ext cx="8032680" cy="5591160"/>
        </p:xfrm>
        <a:graphic>
          <a:graphicData uri="http://schemas.openxmlformats.org/drawingml/2006/table">
            <a:tbl>
              <a:tblPr/>
              <a:tblGrid>
                <a:gridCol w="2314440"/>
                <a:gridCol w="1254240"/>
                <a:gridCol w="1190520"/>
                <a:gridCol w="1041480"/>
                <a:gridCol w="1219320"/>
                <a:gridCol w="1012680"/>
              </a:tblGrid>
              <a:tr h="47448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год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 состоянию на 01.10.201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год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к 20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(%)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900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7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41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68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91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01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89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: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884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0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0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3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2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4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42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бственн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1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87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8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9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з ни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0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3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5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6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37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0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14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Рас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57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82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00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09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3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0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ефицит (профицит)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9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8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5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989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покрытия дефицита, в том числе: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11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статки на счете бюджет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704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аемные средств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300" spc="-1" strike="noStrike">
                <a:solidFill>
                  <a:srgbClr val="006666"/>
                </a:solidFill>
                <a:latin typeface="Arial"/>
              </a:rPr>
              <a:t>ПРОЕКТ</a:t>
            </a:r>
            <a:br>
              <a:rPr sz="1300"/>
            </a:br>
            <a:r>
              <a:rPr b="1" lang="ru-RU" sz="1300" spc="-1" strike="noStrike">
                <a:solidFill>
                  <a:srgbClr val="006666"/>
                </a:solidFill>
                <a:latin typeface="Arial"/>
              </a:rPr>
              <a:t>СТРУКТУРА РАСХОДОВ БЮДЖЕТА ДАЛЬНЕРЕЧЕНСКОГО ГОРОДСКОГО ОКРУГА НА ФИНАНСОВОЕ ОБЕСПЕЧЕНИЕ МУНИЦИПАЛЬНЫХ ПРОГРАММ И НЕПРОГРАММНЫХ НАПРАВЛЕНИЙ НА 2020 ГОД  </a:t>
            </a:r>
            <a:br>
              <a:rPr sz="1300"/>
            </a:br>
            <a:r>
              <a:rPr b="1" lang="ru-RU" sz="1300" spc="-1" strike="noStrike">
                <a:solidFill>
                  <a:srgbClr val="006666"/>
                </a:solidFill>
                <a:latin typeface="Arial"/>
              </a:rPr>
              <a:t>782,15 млн.руб.</a:t>
            </a:r>
            <a:endParaRPr b="1" lang="en-US" sz="13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10" name="Object 4" descr=""/>
          <p:cNvPicPr/>
          <p:nvPr/>
        </p:nvPicPr>
        <p:blipFill>
          <a:blip r:embed="rId1"/>
          <a:stretch/>
        </p:blipFill>
        <p:spPr>
          <a:xfrm>
            <a:off x="1165320" y="2368440"/>
            <a:ext cx="7076880" cy="37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845640" y="487080"/>
            <a:ext cx="781092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МП «РАЗВИТИЕ ОБРАЗОВАНИЯ ДАЛЬНЕРЕЧЕНСКОГО ГОРОДСКОГО ОКРУГА» 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на 2020 год – 448,61 млн.руб. (местный бюджет – 178,44 млн.руб., 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                                                             краевой бюджет – 270,17 млн.руб.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12" name="Object 4" descr=""/>
          <p:cNvPicPr/>
          <p:nvPr/>
        </p:nvPicPr>
        <p:blipFill>
          <a:blip r:embed="rId1"/>
          <a:stretch/>
        </p:blipFill>
        <p:spPr>
          <a:xfrm>
            <a:off x="660240" y="1438200"/>
            <a:ext cx="8250480" cy="498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РАЗВИТИЕ КУЛЬТУРЫ НА ТЕРРИТОРИИ ДАЛЬНЕРЕЧЕНСКОГО ГОРОДСКОГО ОКРУГА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20 год – 73,23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14" name="Object 4" descr=""/>
          <p:cNvPicPr/>
          <p:nvPr/>
        </p:nvPicPr>
        <p:blipFill>
          <a:blip r:embed="rId1"/>
          <a:stretch/>
        </p:blipFill>
        <p:spPr>
          <a:xfrm>
            <a:off x="915840" y="1282680"/>
            <a:ext cx="7705800" cy="551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600" spc="-1" strike="noStrike">
                <a:solidFill>
                  <a:srgbClr val="006666"/>
                </a:solidFill>
                <a:latin typeface="Times New Roman"/>
              </a:rPr>
              <a:t>МП «ОБЕСПЕЧЕНИЕ ДОСТУПНЫМ ЖИЛЬЁМ И КАЧЕСТВЕННЫМИ УСЛУГАМИ ЖКХ НАСЕЛЕНИЯ ДАЛЬНЕРЕЧЕНСКОГО ГОРОДСКОГО ОКРУГА» </a:t>
            </a:r>
            <a:br>
              <a:rPr sz="1600"/>
            </a:br>
            <a:r>
              <a:rPr b="1" lang="ru-RU" sz="1600" spc="-1" strike="noStrike">
                <a:solidFill>
                  <a:srgbClr val="006666"/>
                </a:solidFill>
                <a:latin typeface="Times New Roman"/>
              </a:rPr>
              <a:t>на 2020 год – 21,77 млн.руб.</a:t>
            </a:r>
            <a:endParaRPr b="1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16" name="Object 3" descr=""/>
          <p:cNvPicPr/>
          <p:nvPr/>
        </p:nvPicPr>
        <p:blipFill>
          <a:blip r:embed="rId1"/>
          <a:stretch/>
        </p:blipFill>
        <p:spPr>
          <a:xfrm>
            <a:off x="1071720" y="20318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898920" y="843840"/>
            <a:ext cx="7607160" cy="954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ОБЕСПЕЧЕНИЕ ЖИЛЬЕМ МОЛОДЫХ СЕМЕЙ ДАЛЬНЕРЕЧЕНСКОГО ГОРОДСКОГО ОКРУГА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20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 год – 1,86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18" name="Object 3" descr=""/>
          <p:cNvPicPr/>
          <p:nvPr/>
        </p:nvPicPr>
        <p:blipFill>
          <a:blip r:embed="rId1"/>
          <a:stretch/>
        </p:blipFill>
        <p:spPr>
          <a:xfrm>
            <a:off x="1062000" y="21542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РАЗВИТИЕ ТРАНСПОРТНОГО КОМПЛЕКСА НА ТЕРРИТОРИИ ДАЛЬНЕРЕЧЕНСКОГО ГОРОДСКОГО ОКРУГА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20 год – 20,12 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0" name="Object 3" descr=""/>
          <p:cNvPicPr/>
          <p:nvPr/>
        </p:nvPicPr>
        <p:blipFill>
          <a:blip r:embed="rId1"/>
          <a:stretch/>
        </p:blipFill>
        <p:spPr>
          <a:xfrm>
            <a:off x="1071720" y="20318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 txBox="1"/>
          <p:nvPr/>
        </p:nvSpPr>
        <p:spPr>
          <a:xfrm>
            <a:off x="898920" y="843840"/>
            <a:ext cx="7607160" cy="954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ЭНЕРГОЭФФЕКТИВНОСТЬ, РАЗВИТИЕ ГАЗОСНАБЖЕНИЯ И ЭНЕРГЕТИКИ В ДАЛЬНЕРЕЧЕНСКОМ ГОРОДСКОМ ОКРУГЕ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20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 год – 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32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,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17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2" name="Object 3" descr=""/>
          <p:cNvPicPr/>
          <p:nvPr/>
        </p:nvPicPr>
        <p:blipFill>
          <a:blip r:embed="rId1"/>
          <a:stretch/>
        </p:blipFill>
        <p:spPr>
          <a:xfrm>
            <a:off x="1062000" y="21542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905400" y="823320"/>
            <a:ext cx="7756200" cy="826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ИНФОРМАЦИОННОЕ ОБЩЕСТВО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20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 год – 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1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,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35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4" name="Object 3" descr=""/>
          <p:cNvPicPr/>
          <p:nvPr/>
        </p:nvPicPr>
        <p:blipFill>
          <a:blip r:embed="rId1"/>
          <a:stretch/>
        </p:blipFill>
        <p:spPr>
          <a:xfrm>
            <a:off x="1071720" y="20318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905400" y="823320"/>
            <a:ext cx="7756200" cy="826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500" spc="-1" strike="noStrike">
                <a:solidFill>
                  <a:srgbClr val="006666"/>
                </a:solidFill>
                <a:latin typeface="Times New Roman"/>
              </a:rPr>
              <a:t>МП «ЗАЩИТА НАСЕЛЕНИЯ И ТЕРРИТОРИИ ДАЛЬНЕРЕЧЕНСКОГО ГОРОДСКОГО ОКРУГА ОТ ЧРЕЗВЫЧАЙНЫХ СИТУАЦИЙ ПРИРОДНОГО И ТЕХНОГЕННОГО ХАРАКТЕРА» </a:t>
            </a:r>
            <a:br>
              <a:rPr sz="1500"/>
            </a:br>
            <a:r>
              <a:rPr b="1" lang="ru-RU" sz="1500" spc="-1" strike="noStrike">
                <a:solidFill>
                  <a:srgbClr val="006666"/>
                </a:solidFill>
                <a:latin typeface="Times New Roman"/>
              </a:rPr>
              <a:t>на 20</a:t>
            </a:r>
            <a:r>
              <a:rPr b="1" lang="en-US" sz="1500" spc="-1" strike="noStrike">
                <a:solidFill>
                  <a:srgbClr val="006666"/>
                </a:solidFill>
                <a:latin typeface="Times New Roman"/>
              </a:rPr>
              <a:t>20</a:t>
            </a:r>
            <a:r>
              <a:rPr b="1" lang="ru-RU" sz="1500" spc="-1" strike="noStrike">
                <a:solidFill>
                  <a:srgbClr val="006666"/>
                </a:solidFill>
                <a:latin typeface="Times New Roman"/>
              </a:rPr>
              <a:t> год – 11,26 млн.руб.</a:t>
            </a:r>
            <a:endParaRPr b="1" lang="en-US" sz="15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6" name="Object 3" descr=""/>
          <p:cNvPicPr/>
          <p:nvPr/>
        </p:nvPicPr>
        <p:blipFill>
          <a:blip r:embed="rId1"/>
          <a:stretch/>
        </p:blipFill>
        <p:spPr>
          <a:xfrm>
            <a:off x="1071720" y="20318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 txBox="1"/>
          <p:nvPr/>
        </p:nvSpPr>
        <p:spPr>
          <a:xfrm>
            <a:off x="902880" y="4870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ОТДЕЛЬНЫЕ МЕРОПРИЯТИЯ В РАМКАХ МУНИЦИПАЛЬНЫХ ПРОГРАММ ДАЛЬНЕРЕЧЕНСКОГО ГОРОДСКОГО ОКРУГА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20 год – 1,66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8" name="Object 3" descr=""/>
          <p:cNvPicPr/>
          <p:nvPr/>
        </p:nvPicPr>
        <p:blipFill>
          <a:blip r:embed="rId1"/>
          <a:stretch/>
        </p:blipFill>
        <p:spPr>
          <a:xfrm>
            <a:off x="1282680" y="1892160"/>
            <a:ext cx="7290000" cy="46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 txBox="1"/>
          <p:nvPr/>
        </p:nvSpPr>
        <p:spPr>
          <a:xfrm>
            <a:off x="587160" y="315720"/>
            <a:ext cx="8100000" cy="62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ОСТУПЛЕНИЕ СОБСТВЕННЫХ ДОХОДОВ В МЕСТНЫЙ БЮДЖЕТ ПО ОСНОВНЫМ ИСТОЧНИКАМ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541440" y="990720"/>
          <a:ext cx="8151840" cy="5694120"/>
        </p:xfrm>
        <a:graphic>
          <a:graphicData uri="http://schemas.openxmlformats.org/drawingml/2006/table">
            <a:tbl>
              <a:tblPr/>
              <a:tblGrid>
                <a:gridCol w="2895480"/>
                <a:gridCol w="1297080"/>
                <a:gridCol w="1008000"/>
                <a:gridCol w="1079640"/>
                <a:gridCol w="1008000"/>
                <a:gridCol w="86364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по состоянию на 01.10.20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 Бюджет 20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к 20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39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9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собственных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7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3,9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3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5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6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доходы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4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8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1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7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и на совокупный дох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9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кциз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имущество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емельный нало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5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,7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зем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.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имущ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3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Штраф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та за негативное воздействие на окружающую среду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5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дажа имущ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дажа земельных участк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неналоговые поступлен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9.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7963200" cy="685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600" spc="-1" strike="noStrike">
                <a:solidFill>
                  <a:srgbClr val="06072e"/>
                </a:solidFill>
                <a:latin typeface="Arial"/>
              </a:rPr>
              <a:t>РАСХОДЫ НА НЕПРОГРАММНЫЕ НАПРАВЛЕНИЯ ДЕЯТЕЛЬНОСТИ, СОСТАВЛЯЮЩИЕ БОЛЕЕ 1%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АСХОДОВ, ВКЛЮЧАЯ РЕЗЕРВНЫЙ ФОНД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0" name="Object 4" descr=""/>
          <p:cNvPicPr/>
          <p:nvPr/>
        </p:nvPicPr>
        <p:blipFill>
          <a:blip r:embed="rId1"/>
          <a:stretch/>
        </p:blipFill>
        <p:spPr>
          <a:xfrm>
            <a:off x="630360" y="1235160"/>
            <a:ext cx="7839000" cy="55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600" spc="-1" strike="noStrike">
                <a:solidFill>
                  <a:srgbClr val="330033"/>
                </a:solidFill>
                <a:latin typeface="Times New Roman"/>
              </a:rPr>
              <a:t>ПРОЕКТ</a:t>
            </a:r>
            <a:br>
              <a:rPr sz="1600"/>
            </a:br>
            <a:r>
              <a:rPr b="1" lang="ru-RU" sz="1600" spc="-1" strike="noStrike">
                <a:solidFill>
                  <a:srgbClr val="330033"/>
                </a:solidFill>
                <a:latin typeface="Times New Roman"/>
              </a:rPr>
              <a:t>ПРЕДЕЛЬНЫЙ ОБЪЕМ УРОВНЯ ДЕФИЦИТА БЮДЖЕТА ДАЛЬНЕРЕЧЕНСКОГО ГОРОДСКОГО ОКРУГА млн.руб.</a:t>
            </a:r>
            <a:endParaRPr b="0" lang="en-US" sz="16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332" name=""/>
          <p:cNvGraphicFramePr/>
          <p:nvPr/>
        </p:nvGraphicFramePr>
        <p:xfrm>
          <a:off x="903240" y="1638360"/>
          <a:ext cx="8007480" cy="4860720"/>
        </p:xfrm>
        <a:graphic>
          <a:graphicData uri="http://schemas.openxmlformats.org/drawingml/2006/table">
            <a:tbl>
              <a:tblPr/>
              <a:tblGrid>
                <a:gridCol w="2606760"/>
                <a:gridCol w="1295280"/>
                <a:gridCol w="1008000"/>
                <a:gridCol w="1008360"/>
                <a:gridCol w="1008000"/>
                <a:gridCol w="1081080"/>
              </a:tblGrid>
              <a:tr h="35748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именование показател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 год (по состоянию на 01.10.2019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 год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 к 2019г (%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2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5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ельный объем уровня дефицита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,33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03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5,9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внутреннего финансирования дефицита бюджета: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7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луч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5,59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3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2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,3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гаш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36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5,5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4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3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3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3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зменение остатков средств на счетах по учету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55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7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587160" y="315720"/>
            <a:ext cx="8100000" cy="62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БЕЗВОЗМЕЗДНЫЕ ПОСТУПЛЕНИЯ ОТ ДРУГИХ БЮДЖЕТОВ БЮДЖЕТНОЙ СИСТЕМЫ РОССИЙСКОЙ ФЕДЕРАЦИИ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414360" y="990720"/>
          <a:ext cx="8567640" cy="6245280"/>
        </p:xfrm>
        <a:graphic>
          <a:graphicData uri="http://schemas.openxmlformats.org/drawingml/2006/table">
            <a:tbl>
              <a:tblPr/>
              <a:tblGrid>
                <a:gridCol w="4027320"/>
                <a:gridCol w="1244880"/>
                <a:gridCol w="950760"/>
                <a:gridCol w="806400"/>
                <a:gridCol w="804960"/>
                <a:gridCol w="73332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по состоянию на 01.10.20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к 20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77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80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, всего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0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3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2,7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4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бюджетам городских округов на выравнивание бюджетной обеспеченности и по обеспечению сбалансированност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4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бюджетам на реализацию мероприятий по обеспечению жильем молодых семей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Субсидии бюджетам на реализацию программ формирования совре-менной городской среды</a:t>
                      </a: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и благоустройство дворовых территорий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Субсидии на строительство детского сада, ремонт зданий и благо-устройство территорий детских садов, капитальный ремонт школ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5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3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сидии бюджетам на реализацию мероприятий и на поддержку государственных программ Российской Федерац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9,8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6,8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субвенций бюджету Дальнереченского городского округа: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2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2,1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3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государственных гарантий реализации прав на получение дошкольного образования в муниципальных дошкольных образовательных организациях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реализацию дошкольного, общего и дополнительного образования в муниципальных общеобразовательных учреждениях по основным общеобразовательным программа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5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5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5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5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обучающихся бесплатным питание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6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6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6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6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рганизацию и обеспечение оздоровления и отдыха детей Приморского края (за исключением организации отдыха детей в каникулярное время)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детей-сирот жилыми помещениям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венции на выполнение переданных полномочий Российской Федерации и субъектов Российской Федерац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,5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90320" y="228240"/>
            <a:ext cx="7753320" cy="74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ПРОЕКТ </a:t>
            </a:r>
            <a:br>
              <a:rPr sz="1900"/>
            </a:b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СТРУКТУРА ДОХОДОВ БЮДЖЕТА ДАЛЬНЕРЕЧЕНСКОГО ГОРОДСКОГО ОКРУГА НА 20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 ГОД (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768</a:t>
            </a: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млн.руб.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7" name="Object 4" descr=""/>
          <p:cNvPicPr/>
          <p:nvPr/>
        </p:nvPicPr>
        <p:blipFill>
          <a:blip r:embed="rId1"/>
          <a:stretch/>
        </p:blipFill>
        <p:spPr>
          <a:xfrm>
            <a:off x="1127160" y="1235160"/>
            <a:ext cx="7045200" cy="499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ПРОЕКТ</a:t>
            </a:r>
            <a:br>
              <a:rPr sz="1900"/>
            </a:b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СТРУКТУРА СОБСТВЕННЫХ (НАЛОГОВЫХ И НЕНАЛОГОВЫХ) ДОХОДОВ В 20</a:t>
            </a:r>
            <a:r>
              <a:rPr b="1" lang="en-US" sz="1900" spc="-1" strike="noStrike">
                <a:solidFill>
                  <a:srgbClr val="06072e"/>
                </a:solidFill>
                <a:latin typeface="Times New Roman"/>
              </a:rPr>
              <a:t>20</a:t>
            </a: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 ГОДУ (3</a:t>
            </a:r>
            <a:r>
              <a:rPr b="1" lang="en-US" sz="1900" spc="-1" strike="noStrike">
                <a:solidFill>
                  <a:srgbClr val="06072e"/>
                </a:solidFill>
                <a:latin typeface="Times New Roman"/>
              </a:rPr>
              <a:t>98</a:t>
            </a: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,</a:t>
            </a:r>
            <a:r>
              <a:rPr b="1" lang="en-US" sz="1900" spc="-1" strike="noStrike">
                <a:solidFill>
                  <a:srgbClr val="06072e"/>
                </a:solidFill>
                <a:latin typeface="Times New Roman"/>
              </a:rPr>
              <a:t>08</a:t>
            </a: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 млн.руб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9" name="Object 4" descr=""/>
          <p:cNvPicPr/>
          <p:nvPr/>
        </p:nvPicPr>
        <p:blipFill>
          <a:blip r:embed="rId1"/>
          <a:stretch/>
        </p:blipFill>
        <p:spPr>
          <a:xfrm>
            <a:off x="485640" y="1566720"/>
            <a:ext cx="8001000" cy="469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25080" y="198360"/>
            <a:ext cx="8334360" cy="87624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СРАВНЕНИЕ ОБЪЕМОВ МЕЖБЮДЖЕТНЫХ ТРАНСФЕРТОВ 201</a:t>
            </a:r>
            <a:r>
              <a:rPr b="0" lang="en-US" sz="1900" spc="-1" strike="noStrike">
                <a:solidFill>
                  <a:srgbClr val="06072e"/>
                </a:solidFill>
                <a:latin typeface="Times New Roman"/>
              </a:rPr>
              <a:t>9</a:t>
            </a: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 И 20</a:t>
            </a:r>
            <a:r>
              <a:rPr b="0" lang="en-US" sz="1900" spc="-1" strike="noStrike">
                <a:solidFill>
                  <a:srgbClr val="06072e"/>
                </a:solidFill>
                <a:latin typeface="Times New Roman"/>
              </a:rPr>
              <a:t>20</a:t>
            </a: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-202</a:t>
            </a:r>
            <a:r>
              <a:rPr b="0" lang="en-US" sz="1900" spc="-1" strike="noStrike">
                <a:solidFill>
                  <a:srgbClr val="06072e"/>
                </a:solidFill>
                <a:latin typeface="Times New Roman"/>
              </a:rPr>
              <a:t>2</a:t>
            </a: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 ГОДОВ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1" name="Object 4" descr=""/>
          <p:cNvPicPr/>
          <p:nvPr/>
        </p:nvPicPr>
        <p:blipFill>
          <a:blip r:embed="rId1"/>
          <a:stretch/>
        </p:blipFill>
        <p:spPr>
          <a:xfrm>
            <a:off x="325440" y="1138320"/>
            <a:ext cx="4686120" cy="573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02" name=""/>
          <p:cNvGraphicFramePr/>
          <p:nvPr/>
        </p:nvGraphicFramePr>
        <p:xfrm>
          <a:off x="5240160" y="1141560"/>
          <a:ext cx="3470400" cy="5673600"/>
        </p:xfrm>
        <a:graphic>
          <a:graphicData uri="http://schemas.openxmlformats.org/drawingml/2006/table">
            <a:tbl>
              <a:tblPr/>
              <a:tblGrid>
                <a:gridCol w="1590840"/>
                <a:gridCol w="1879560"/>
              </a:tblGrid>
              <a:tr h="784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иды межбюджетных трансфер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пределение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1158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ubvenire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– приходить на помощь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на финансирование «переданных» полномоч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7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я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ubsidium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– поддержка)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на условиях долевого софинансирования расходов других бюдже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</a:tr>
              <a:tr h="1201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Dotatio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– дар, пожертвование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я без определения конкетной цели их использовани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</a:tr>
              <a:tr h="13716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ные межбюджетные трансферты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из бюджетов разного уровня в соответствии с нормативными актами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99880" y="277560"/>
            <a:ext cx="7521480" cy="8571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ПРОЕКТ</a:t>
            </a:r>
            <a:br>
              <a:rPr sz="1700"/>
            </a:b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СТРУКТУРА СУБВЕНЦИЙ НА ВЫПОЛНЕНИЕ ПЕРЕДАВАЕМЫХ ПОЛНОМОЧИЙ В 20</a:t>
            </a: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20</a:t>
            </a: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ГОДУ (302,14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304" name="Object 6" descr=""/>
          <p:cNvPicPr/>
          <p:nvPr/>
        </p:nvPicPr>
        <p:blipFill>
          <a:blip r:embed="rId1"/>
          <a:stretch/>
        </p:blipFill>
        <p:spPr>
          <a:xfrm>
            <a:off x="517680" y="1152360"/>
            <a:ext cx="8459640" cy="535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587160" y="315720"/>
            <a:ext cx="8100000" cy="62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РОЕКТ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РАСПРЕДЕЛЕНИЕ БЮДЖЕТНЫХ СРЕДСТВ В ВЕДОМСТВЕННОЙ СТРУКТУРЕ РАСХОДОВ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06" name=""/>
          <p:cNvGraphicFramePr/>
          <p:nvPr/>
        </p:nvGraphicFramePr>
        <p:xfrm>
          <a:off x="541440" y="1351080"/>
          <a:ext cx="8440560" cy="5103720"/>
        </p:xfrm>
        <a:graphic>
          <a:graphicData uri="http://schemas.openxmlformats.org/drawingml/2006/table">
            <a:tbl>
              <a:tblPr/>
              <a:tblGrid>
                <a:gridCol w="3400200"/>
                <a:gridCol w="1440000"/>
                <a:gridCol w="936720"/>
                <a:gridCol w="936360"/>
                <a:gridCol w="790560"/>
                <a:gridCol w="93672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9г по состоянию на 01.10.20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 к 2019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77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2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щегосударственные вопрос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4,4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1,7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9,7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9,5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3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безопасность и правоохранительная деятельность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2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эконом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,5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1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,9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,9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1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Жилищно-коммунальное хозяйство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4,7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5,8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6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5,0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8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разование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85,5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65,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61,3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61,3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5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Культура и кинематограф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6,3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9,4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9,2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9,2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7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циальная полит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6,8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2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2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2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6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Физическая культура и спор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редства массовой информаци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1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служивание государственного и муниципального долг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2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Условно утвержденные рас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9,9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РАС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57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82,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00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09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3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ПРОЕКТ </a:t>
            </a:r>
            <a:br>
              <a:rPr sz="1700"/>
            </a:b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СТРУКТУРА РАСХОДОВ ДАЛЬНЕРЕЧЕНСКОГО ГОРОДСКОГО ОКРУГА НА 20</a:t>
            </a: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20</a:t>
            </a: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 ГОД (</a:t>
            </a: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782</a:t>
            </a: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,</a:t>
            </a: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15</a:t>
            </a: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308" name="Object 4" descr=""/>
          <p:cNvPicPr/>
          <p:nvPr/>
        </p:nvPicPr>
        <p:blipFill>
          <a:blip r:embed="rId1"/>
          <a:stretch/>
        </p:blipFill>
        <p:spPr>
          <a:xfrm>
            <a:off x="558720" y="1397160"/>
            <a:ext cx="8178840" cy="51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Куранова</cp:lastModifiedBy>
  <dcterms:modified xsi:type="dcterms:W3CDTF">2019-11-27T00:23:01Z</dcterms:modified>
  <cp:revision>213</cp:revision>
  <dc:subject/>
  <dc:title>Структура собственных доходов на 2016 год бюджета Дальнереченского городского округа</dc:title>
</cp:coreProperties>
</file>