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B109-97EF-442C-A0E5-54D404ED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7674-3087-4D5B-8FF9-BEA1324F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43BE-A527-4AFD-9379-8756B868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39C9-0A9D-417F-B57C-F883EC43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451E-3A74-4F77-BBB7-24A2E763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B916-3400-47B0-9325-4CBD0271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9F7E-24A3-42AF-9FC9-7D9685C4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230C-01A6-4B80-8A53-B1702259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ED05-510A-4E34-A3EE-F9F8BF76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4B2C-161E-49A1-A803-175107C6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6273-67F9-46B3-8940-D20B6721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9597-226D-4436-8830-0B167D37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9F3F-7B79-4EFE-8B57-D6D85796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608F-7A83-4F3A-BE2F-BA1AA7F5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CD66-FF50-4C09-88F6-2D0A6A7E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C029-F875-4E27-BE9B-0C95269A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BA4C-51F4-43ED-96EA-47E219CA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2919-05D0-485F-876C-F5FDD84C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F03E-5AEA-42E0-A103-84DCC1AC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2063-9E7D-4A3B-B7B8-6226461A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4879-45A3-4CC1-9794-AD6F6253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3B53-3949-4253-AC6B-F61FB824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015E-AE0E-4DBF-800E-5087F46E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4FA5-8197-4AA1-8E50-E06243FE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9AB9-266A-445E-9BB6-610F490FEE1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CE2C-367A-4124-85D6-5D683B64A40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0 ГОД И ПЛАНОВЫЙ ПЕРИОД 2021-2022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30:08Z</dcterms:modified>
  <cp:revision>44</cp:revision>
  <dc:subject/>
  <dc:title>Структура собственных доходов на 2016 год бюджета Дальнереченского городского округа</dc:title>
</cp:coreProperties>
</file>