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87C0-5E17-4A06-AA91-AB2927F468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49B1-1D92-4776-A351-55E5D9EFD80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A905-E92A-4EB9-A69F-6ACC217B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57CB-3FEA-4136-A233-598AFBC7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7A1A-38BA-4041-AF9F-7BBBD1AC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378-5E21-439F-B40D-CBC31320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E49B-5101-4B33-942A-ABD5BEA8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7AF4-D7D2-4808-A612-8792E698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7DE5-D34B-49C9-8AD0-43B47858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F369-33EA-4710-9756-50877A61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0111-3AEF-43E0-B71A-84758D5C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974A-F6AB-403A-A096-0483C8DE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B7F0-46C9-4759-8221-C8E890D9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3139-766E-4EF8-8399-BABED104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EC48-801D-4626-9DD5-3786B06A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E6C3-B5AF-406A-815F-9CE977B0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EFE9-F40F-422A-B313-05C3E8EA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72FE-E5B1-46C1-A411-8A1B0B9F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2B43-E929-4BB2-8A49-003C822D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1EBA0-28F4-4B03-B176-795A94B7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0C860-D146-4CB4-9FE2-277FD7FF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C471C-997B-42F3-AC58-A296931D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F9139-66F0-4A4D-8B00-79A514DE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0334A-E6C6-47F9-A6E4-23D2DF53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8945-E6E1-4FC4-89FA-BCB33371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E9FBA-C11B-4129-9457-4F668462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1B163-6EB8-4D7E-AA41-6701248A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CDA03-5B36-4F55-878E-CCDEBEA2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75DED-DCC3-4EFB-8E5B-FC49E031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B1A9E-691A-4904-82CF-149B5E92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06C2E-F3C2-4B5E-B795-3462CF46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6AED4-2BD8-4686-BE12-8519323A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970FA-87FD-48A9-A92D-0E1EAC34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7BEA0-BC86-4EDC-A1B5-E48CF751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4CADB-04ED-44F3-AD78-9FDD919E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A5E4-5BA2-49AF-AFAD-BFEF072B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DAF22-4762-46BA-A852-2A4962D8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894DA-67BC-4515-AA30-D6E93DB2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291C3-766F-4D59-956D-CA158D52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56B84-82DC-41F7-8516-89CB2750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47850-A53A-478F-B7C7-8E7DDE75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3F292-B362-4349-85A6-D5316065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DCC36-2465-44C3-A8F5-60C57AFC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2C8EB-049C-41FA-80F3-23CF2D03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0AF11-4E0A-41C6-961D-9BEDAB86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F3A08-4DE3-4C46-AF99-B83D4EF8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2542-2331-4544-8748-2EDAA2D7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64C62-BA11-4857-9CA9-3CF77F1F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1B30B-1891-4472-9198-BE9C873B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DA73B-FFBB-4EA2-8236-6195FE2B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E279D-5848-4E65-BD76-4D8C661A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484C7-051A-4A03-8C9C-FE09B8F4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43DCA-51A5-4E2C-A037-8211FBD2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94BB7-7B5E-4850-834D-403CE634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29C38-2188-4AFE-9D97-DD4E2D3B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9755E-350A-4780-A56D-DEDF3B5E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42CFF-5C3E-4D91-80C4-57DC7032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15D6-0D70-4FF1-9EBC-078EB156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03A00-8DAB-4B0B-9CF8-149212E4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B4378-182A-48DF-8161-387C142D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76149-A75E-41F1-A0CB-98AE9C81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7B93E-616B-47D1-97BD-96BF16B3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2F288-91C3-4CCB-88A9-EF795160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F86B9-EBFC-436C-A5AC-F5091217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BDD99-0D96-4D95-A338-B9AB98E6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E33D8-A4B8-4B82-9297-88D1D002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33AFE-D402-403E-AAF3-C9B57081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C6D99-8F56-4B24-A25C-526421F3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ABDF-DF46-48E7-AFFB-8918FB04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2A24E-288C-4B07-8BCE-BBC2F27E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38199-6476-484C-B031-DA345CC6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7A887-D597-4F18-84FC-438511A7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A4F6-4E1F-4047-85E7-60A5CD9C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2185-1965-4B0C-9B2C-3369F242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922D-DA7E-412C-8A65-F9735CF051A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036F-F9FB-48EE-B27A-FAF5C00776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D8CE-0E9E-4DEB-9763-EB997F52ADA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1011-07FC-47EA-BB5C-19CA6CBDC44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3490-B45C-49ED-8971-0A7D466233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8800"/>
              <a:chOff x="637560" y="534600"/>
              <a:chExt cx="8109000" cy="2988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5BBF-1F5D-44F7-BC11-C6A92FF2606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782,1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8,61 млн.руб. (местный бюджет – 178,44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70,1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77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1,8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20,12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,6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(по состоянию на 01.10.201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990720"/>
          <a:ext cx="8567640" cy="62452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-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68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02,1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по состоянию на 01.10.20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78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23:01Z</dcterms:modified>
  <cp:revision>213</cp:revision>
  <dc:subject/>
  <dc:title>Структура собственных доходов на 2016 год бюджета Дальнереченского городского округа</dc:title>
</cp:coreProperties>
</file>