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198A6-D1EE-449C-99BC-3325399CC8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1676F-5857-4D84-8C6D-9E45F16CDDAE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6A9E-47E5-4DD7-9D81-455131CAE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AD5B-5B1A-4E73-832C-8E5114567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5E15-CE3E-4CF6-8FDE-4AFB435DC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C027-1916-4DC7-8BA8-9A4FF2710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597B1-2477-4E0B-A217-DB8B356F4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DDA96-2DD2-44BE-AFE5-8BF0F1E8A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63497-A48A-462D-B76B-16FEDE018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F245C-FF3A-4388-805D-FE6042F0F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79C03-2A48-4B93-A8FC-67DFD2816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7B1BE-0BF4-45C0-BDBC-4DF2173B5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EB603-4473-402F-8FF2-406B49A3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2011-82BD-47DA-934E-258DB0D2C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8F94A-73DE-41EF-9E33-8DB7AD55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A6383-29B5-4284-AA1F-DF27CCC8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71C44-101E-4913-9B46-43D3C51A8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29360-61B8-4760-92CA-4EA056BD1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2AFD7-A299-4AE4-A8F3-5792874E8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194C2-7628-4287-8007-1DC53374D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BEEC6-236D-453E-B091-466AD2D78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FA870-59DD-47F0-8261-0808761AE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7C13E-F53C-42F0-AFB4-AB6F0084A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B7D54-30AF-4A3F-A174-22B30F941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C8B0-6C0E-4552-9E92-9862FC5AA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5826E-9EFF-42D5-84CD-ADE5E33BA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41A55-9B3A-49F4-B613-9F2FC0B1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74799-8E35-4533-9F97-EF5DA02E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3E8FD-D022-4068-997B-E864D944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BF36D-749A-4F60-A101-2B898ED63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CBCAD-6038-4583-9A42-6C64A6387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34E3A-C40B-4218-8628-DDFF08B5D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081DB-8576-4ABC-AD7D-F0684F3CC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FCE33-0F76-4D15-98B0-BD0C8616D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2BE62-D5D8-4232-9DAC-9B0B745D0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D4A6-D279-4834-B031-559186F20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D278E-6E1E-4FE9-A059-4722E8389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B05A7-E27F-4A18-8BEE-FFBE00A1A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DC0C7-FA86-4DAB-B57F-4832E0C00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27204-5C45-4D00-8365-13D09366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EA36B-04BE-4CE0-9530-4E1DCA00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14134-CF22-4C22-A0FD-2CFB1D03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D1218-15EB-4747-B21D-A0DCD8A1A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0166A-C164-4A87-9914-A089C1729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B0B2C-3138-4DD7-9D2A-7DA8D2087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A5D130-778E-4AD2-AA04-570697608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E2F1-6A01-492D-915C-AE159629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4E23F-4ED7-4796-9923-AEE2FB106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A5BBC-C9C5-48AE-AA39-574D5D76D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7E19F-1A8C-4491-80D3-41B28B5AA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FE28A-5D2D-4B74-8617-28DFD06D6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722E0-4C08-4249-83A8-632E4057A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48A60-4053-43B7-8085-00D7290D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F56ED-BDC3-4CEC-9FAE-BA5F798F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7BD83-EB3C-4308-AD05-C2ED92C3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C925F-0069-4C76-BB3A-974D60DB4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54A6E-8B30-4570-9D80-A64908E37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C744-D12F-40FA-BAA5-981840CC3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9D6E1-C13B-4852-BA29-5582D7CFF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4EBA1-0F16-43B2-BE38-A3B3AFEEB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7ED56-BDC9-4458-93A8-AD1E1A361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819BF-E00C-4AE4-A61D-AC886D718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B6C4A-7750-4D82-B595-4BA0205DA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EB33F-05BB-4E8A-AE2A-10F0E8B7D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E796C-0404-42CA-9F68-B01C8CB79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2B2D7-E933-4DB2-89B9-0D2B0FD1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CE080-231C-4C4A-BA93-A1713B5A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BEC6B2-4F44-4BFF-931D-95D3DD0B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AAE8-4838-4BD4-A5E0-DDFCF47A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53815-320D-4024-A986-66FBADEFE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4224E-0BE2-499C-923E-DA94A5BE3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EA44E-F3CF-4863-9914-0AC234F32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AAC8-BB77-4460-959F-52CBB124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BB11-BB96-4BD3-9854-9F700F5A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62ADC-354B-4B7F-95AB-4813BB29CEFB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0CD70-EB56-4547-87CF-93B9D22E5CE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2360B-C25A-4BBB-A9C5-D185D366398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0CEA1-414E-4B65-A01A-360DD5D6C91D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54E5E-F4ED-460B-8648-7354DCEE342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298800"/>
              <a:chOff x="637560" y="534600"/>
              <a:chExt cx="8109000" cy="29880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2988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841C0-8DB2-4EAC-860A-61DD412FC15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0-2021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8032680" cy="5591160"/>
        </p:xfrm>
        <a:graphic>
          <a:graphicData uri="http://schemas.openxmlformats.org/drawingml/2006/table">
            <a:tbl>
              <a:tblPr/>
              <a:tblGrid>
                <a:gridCol w="2314440"/>
                <a:gridCol w="1254240"/>
                <a:gridCol w="1190520"/>
                <a:gridCol w="1041480"/>
                <a:gridCol w="1219320"/>
                <a:gridCol w="1012680"/>
              </a:tblGrid>
              <a:tr h="474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88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2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14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11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20 ГОД  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782,15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0" name="Object 4" descr=""/>
          <p:cNvPicPr/>
          <p:nvPr/>
        </p:nvPicPr>
        <p:blipFill>
          <a:blip r:embed="rId1"/>
          <a:stretch/>
        </p:blipFill>
        <p:spPr>
          <a:xfrm>
            <a:off x="1165320" y="2368440"/>
            <a:ext cx="70768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845640" y="487080"/>
            <a:ext cx="781092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20 год – 448,61 млн.руб. (местный бюджет – 178,44 млн.руб.,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70,17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2" name="Object 4" descr=""/>
          <p:cNvPicPr/>
          <p:nvPr/>
        </p:nvPicPr>
        <p:blipFill>
          <a:blip r:embed="rId1"/>
          <a:stretch/>
        </p:blipFill>
        <p:spPr>
          <a:xfrm>
            <a:off x="660240" y="1438200"/>
            <a:ext cx="825048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73,2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4" name="Object 4" descr=""/>
          <p:cNvPicPr/>
          <p:nvPr/>
        </p:nvPicPr>
        <p:blipFill>
          <a:blip r:embed="rId1"/>
          <a:stretch/>
        </p:blipFill>
        <p:spPr>
          <a:xfrm>
            <a:off x="915840" y="1282680"/>
            <a:ext cx="77058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на 2020 год – 21,77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1,86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8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20,12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0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2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7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2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5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4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МП «ЗАЩИТА НАСЕЛЕНИЯ И ТЕРРИТОРИИ ДАЛЬНЕРЕЧЕНСКОГО ГОРОДСКОГО ОКРУГА ОТ ЧРЕЗВЫЧАЙНЫХ СИТУАЦИЙ ПРИРОДНОГО И ТЕХНОГЕННОГО ХАРАКТЕРА»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5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 год – 11,26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1,66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8" name="Object 3" descr=""/>
          <p:cNvPicPr/>
          <p:nvPr/>
        </p:nvPicPr>
        <p:blipFill>
          <a:blip r:embed="rId1"/>
          <a:stretch/>
        </p:blipFill>
        <p:spPr>
          <a:xfrm>
            <a:off x="1282680" y="1892160"/>
            <a:ext cx="729000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69412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по состоянию на 01.10.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.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.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1%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Object 4" descr=""/>
          <p:cNvPicPr/>
          <p:nvPr/>
        </p:nvPicPr>
        <p:blipFill>
          <a:blip r:embed="rId1"/>
          <a:stretch/>
        </p:blipFill>
        <p:spPr>
          <a:xfrm>
            <a:off x="630360" y="1235160"/>
            <a:ext cx="78390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 (по состоянию на 01.10.2019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5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5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14360" y="990720"/>
          <a:ext cx="8567640" cy="624528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по состоянию на 01.10.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по обеспечению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бюджетам на реализацию программ формирования совре-менной городской среды</a:t>
                      </a: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строительство детского сада, ремонт зданий и благо-устройство территорий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 ГОД (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768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Object 4" descr=""/>
          <p:cNvPicPr/>
          <p:nvPr/>
        </p:nvPicPr>
        <p:blipFill>
          <a:blip r:embed="rId1"/>
          <a:stretch/>
        </p:blipFill>
        <p:spPr>
          <a:xfrm>
            <a:off x="1127160" y="1235160"/>
            <a:ext cx="704520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ГОДУ (3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9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,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0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Object 4" descr=""/>
          <p:cNvPicPr/>
          <p:nvPr/>
        </p:nvPicPr>
        <p:blipFill>
          <a:blip r:embed="rId1"/>
          <a:stretch/>
        </p:blipFill>
        <p:spPr>
          <a:xfrm>
            <a:off x="485640" y="1566720"/>
            <a:ext cx="800100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9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-202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ГОДУ (302,14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4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 по состоянию на 01.10.20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7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85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5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1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1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2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0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 ГОД (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78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,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15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8" name="Object 4" descr=""/>
          <p:cNvPicPr/>
          <p:nvPr/>
        </p:nvPicPr>
        <p:blipFill>
          <a:blip r:embed="rId1"/>
          <a:stretch/>
        </p:blipFill>
        <p:spPr>
          <a:xfrm>
            <a:off x="558720" y="1397160"/>
            <a:ext cx="81788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11-27T00:23:01Z</dcterms:modified>
  <cp:revision>213</cp:revision>
  <dc:subject/>
  <dc:title>Структура собственных доходов на 2016 год бюджета Дальнереченского городского округа</dc:title>
</cp:coreProperties>
</file>