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3AFD-26DF-4CD6-A3FF-998BC1DBA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BECA-DF7C-4F3B-AB6C-CF0CFEF6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F2CC-ED6F-4A3B-B155-D01B50D2C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CB17-E1A9-4FEC-BE81-1C3FB6588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2BED-AB68-4FBE-96CA-E9394229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BA6E-BC8F-4DEE-9280-99FEA285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163C-9A78-4AAB-9B7F-9D45D918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51D7-F0B1-4B82-85A6-5AAABE4C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0F41-C870-4E16-B4E1-F6DF1214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A675-6E4D-4423-A8A2-CEE3B78A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BEFC-23C4-4DEF-AEF7-7C502F8C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AF6B-FEE5-4069-BA34-6C2B2154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ADF1-3B6B-4718-8651-F0C2BDCA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B10D-F54D-4C4A-B98D-8CCC80C2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FA7E-306E-4514-9D51-6FFA1C8B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7F97-316D-404B-BE9B-54086206F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03EC-0E68-44D3-AAA2-73E3003B1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FE24-01D3-46DE-9BDD-6A7ACD42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E79F-7D0E-4D7E-A061-C0B954F8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66F6-B5F9-4F1B-B3C8-3CC0938F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B52A-B76C-4128-85B1-0F3E6FF5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DFD0-A7A4-4CEE-9F9B-E8B45736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79B9-F8FB-4238-BD70-B6C20CC7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DF33-DEA9-4C55-AE8E-5BA3C496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7681-CCF6-43E1-8E7E-1223CE87B06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6199-569E-4CB9-B2B2-8C783D16A6F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ОД И ПЛАНОВЫЙ ПЕРИОД 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-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14:14Z</dcterms:modified>
  <cp:revision>45</cp:revision>
  <dc:subject/>
  <dc:title>Структура собственных доходов на 2016 год бюджета Дальнереченского городского округа</dc:title>
</cp:coreProperties>
</file>