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DFEA-7222-4EF9-A8BE-2B8468E156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CA41-FFC4-4642-8BC3-A18773EDC64F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97A0-7517-4C28-8015-4CA1995D0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D2A3-9F39-4477-8F6D-299016C9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AF4B-6C51-421C-97FA-2E97A8423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80A2-C2F4-4606-867D-60040DCA5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1936-B701-4EAB-9F09-BB2676DDE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F212-209D-43B0-A08D-85BCF744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F2C1-D552-4709-B14B-855AE709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883D-CC10-465B-BE30-0A3DB6BA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3EF5-3F81-43D8-BDB8-B3814501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57C4-62ED-4AF0-8F49-4232AB2C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91ED-A2FF-43FA-AE86-0EAAB96E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40DB-DB7B-4578-AA3A-7070E90B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21D0-8E5A-45AA-B7E4-79F32128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C922-5EE6-4062-AEBA-CEAFDB42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21A9-A186-421C-941A-6DFA4B48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9018-3CB8-4951-9AD8-80F7FD7BC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806E-D29F-4F4E-BDD1-C1B2B18A2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8EE0B-069E-4526-B193-80D719F92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912BE-FE01-4082-A1C5-1BB8DDE7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E60D3-76AD-483A-8D56-03CA59E5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C1387-787D-405D-894E-E0660829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38A64-351F-4D54-BE57-11623382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D6FD-3D6B-49F2-95AD-E94DA5EA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910F6-BAF3-48C6-B7B4-CD0E1462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AF02E-D205-4C82-96A8-84F3BECE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E159D-2708-4F9D-AF66-A04FD9CF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E1C12-D19B-4D20-96B6-65F1BB0E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6557B-3806-4D08-A1A7-09C70067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22202-9CCE-4706-B393-C52262C38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FBCE5-92C6-4F9E-A1F3-DB7C9A821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7F008-A403-4821-AB8D-4E01A212D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93860-7B4C-4729-99DE-42FCF85C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FFB99-B215-42A6-9039-A66E4C71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F7AD-9D76-4DBC-A662-8753E8BD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44722-37CF-4F8D-AF04-0B0D9D40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6F472-5C14-4152-AF7F-699DF970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722EA-0B11-4BF8-BB42-ABAADCC3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888EF-BBDB-4ADA-93EF-41885CF0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930FF-61DA-498B-9FAD-9577CFFF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6DB40-8A90-434E-B104-491E861C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92610-9043-4576-BEB3-FDF07226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ABB01-82F1-43CC-BDE0-016658E2D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12C10-2010-402A-BF7D-A2F23D370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A6C5A-0252-4A88-A91C-499F6C3F8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6C35-D231-4FDD-AA0B-A3561FEC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3CA6C-D294-4B00-8106-EB66EE54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51A87-B299-4B4F-B98D-FF2FC6D8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8CD63-C662-40F2-9271-263BDE1D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C196E-05BB-47D9-91F9-B89BF0B0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52CCF-40F4-4BC8-B09F-A4DD1FC1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C8427-6461-452D-A4D7-36994E40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B106D-59DA-4B90-8861-C96F46C6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1204A-FC56-4EBF-BE45-F9D88B75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75E6A-3187-4395-B397-6ED23EE1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C542F-E0B9-4BD4-AA65-A5245AC82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088D-1ACE-45A2-86FA-FA6D5567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C3702-3760-443E-BA15-C9D0A734C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7485-A937-474F-866D-A511F086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439F-ED2C-4EF9-8DCD-4D4805D8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A161-1908-46C9-890D-7A382CD9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5392-C123-4519-9379-8B079E3DDE5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07DE-950A-4AC1-B91C-D0687F2D761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6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97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5EF9-D3FA-4B22-9595-A819A026E5F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4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14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14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A748-3488-43B6-A553-E00F84C7C22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9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457B-9215-4F18-91A5-056C88FD4C7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254240" y="331920"/>
            <a:ext cx="7412760" cy="7484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ГОДУ (318,85 млн.руб.)</a:t>
            </a:r>
            <a:endParaRPr b="1" lang="en-US" sz="17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7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8:13Z</dcterms:modified>
  <cp:revision>160</cp:revision>
  <dc:subject/>
  <dc:title>Структура собственных доходов на 2016 год бюджета Дальнереченского городского округа</dc:title>
</cp:coreProperties>
</file>