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8D8A-8565-411F-B38D-570CA1706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54EA-004A-4621-B8F4-9E915B2E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A33E-9126-4A26-B996-610837B68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2C78-39F2-4FE5-A614-48F5EC060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628B-8F73-45BC-A5A6-45A74DB07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0254-4620-452E-AF57-98B79214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88F2-2888-40E0-BB92-6D904D02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CD26-2EFD-476B-A459-15747174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F902-5597-498E-A560-5BB0223A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7A1B-CB2B-47F2-97ED-71E33BEE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7876-14AA-44EF-A77A-AD928ABB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6EB4-0BD5-43E6-AD14-66DF4CCD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C7E4-154A-46CC-9A15-4963466F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7AB6-D903-49F4-A3EF-69B73AF3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E558-1009-4121-A628-38DD9891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5E9F-D231-43D4-B779-C7BA04767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8174-7B92-4E33-9DD0-6BB6C6EB8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02FA-32D1-4C65-88D3-3A0DD60B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62DF-536D-4998-9F90-CD0269DA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0EAF-FEA5-4673-9039-FF94388D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794B-AE09-4FF2-9D9D-65604D7C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0C29-3AD5-4295-82CC-5E7E3736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82A1-5DC1-4DB7-A356-C6561CF6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1C2B-284E-401D-BA71-7829A67D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1BD3-F81B-419A-A04C-BD2977D9425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96CC-D743-4C51-8885-FDD3D28A1FB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ОД И ПЛАНОВЫЙ ПЕРИОД 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-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14:14Z</dcterms:modified>
  <cp:revision>45</cp:revision>
  <dc:subject/>
  <dc:title>Структура собственных доходов на 2016 год бюджета Дальнереченского городского округа</dc:title>
</cp:coreProperties>
</file>