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058F-B2A4-40B9-806E-872C6EB0B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3A25-1306-4936-89EE-13FE7530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870C-F109-4D9A-84C1-0944EA6C7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C022-BCCC-4EFC-A033-0BDAEAE78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9B95-9E8F-4BCE-9AB9-F2FC6F102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4AE6-6E3D-4A21-B3F7-DF784FB1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01D7-E137-4BF5-80DF-7742E3F0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8417-E8E4-42FB-A42B-0A9FD347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94FC-A35A-4171-B922-650FBBE4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2787-9653-4F04-8192-B0366A75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75E48-C826-4EE5-B078-6D6848B0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FDFE-6AFD-44DC-B84C-648EC2C3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B96C-8E77-465C-BA99-705CC4EB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2FE13-1F94-4DA4-B065-F7620D69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6427-6EFB-47CF-819E-057D4399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FF54-355F-4082-8A42-E14FDF602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4DEC-B86C-42E9-98AA-724EB7A6F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F26A-C665-4A2C-9A07-ABC6810C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22B0-38AC-4135-8E1E-1EC5A829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9214-DF9E-4D7C-9C56-45DC1C47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FD29-A287-4986-86F2-CC9970C6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C8A9-E930-4912-AC3B-1FA7B8DA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39F1-3C2C-4D77-9DD9-66AC177C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5B66-5E0A-443F-9B92-C2BD44CF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4CF7-E163-462E-87E6-1EEDCDE42FD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C5B1-E9B1-4D51-A263-A5890298F0D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ОД И ПЛАНОВЫЙ ПЕРИОД 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-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14:14Z</dcterms:modified>
  <cp:revision>45</cp:revision>
  <dc:subject/>
  <dc:title>Структура собственных доходов на 2016 год бюджета Дальнереченского городского округа</dc:title>
</cp:coreProperties>
</file>