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2F02-4B08-4AFD-8550-4CBB43392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EA87-ACD6-4ED9-8B4F-45822D31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C2CE-77CE-4316-9836-619075A1B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396C-1C48-4112-82C2-B4EDEE3B5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0652-2A9C-4021-A17F-8EF2C479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ED51-C540-41DC-9563-BAA751D8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7B05-897D-4BB5-B9AB-473FD251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7BB2-29DC-4E9A-8CA6-7DF1E149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53EC-CB37-4DD3-9290-80A40DA3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09C6-5A33-4E90-9210-F0D68D81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A5E2-2E7A-41CB-AF5B-CEFECFAF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CFC3-DFD2-46D6-BE41-E148C7F2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18C5-AFD1-409F-93BA-F0BF3610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6323-4E67-4B3E-8AC9-562EC3B7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D459-8FA9-405E-B152-FF90C6AF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D3CF-9062-494A-A2D1-E2CFB5FB0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16B5-C764-4529-AC82-022678AE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62C6-3F4E-4959-BAF5-FFE929B6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7C71-9648-47E9-8C8C-705EC80A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EA76-19D4-4081-A7EA-EF6A8E8A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F768-1B9C-4BEE-ADD3-865EECDE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749D-B569-4FC4-B995-64681DDE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1B66-2B38-415D-AB11-4C539DAD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2EE9-0A8F-44D4-8935-C536621D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CC82-310D-417E-A85D-B0047F8590F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ADDE-3207-4CEB-9453-82DB5A17E62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40:13Z</dcterms:modified>
  <cp:revision>45</cp:revision>
  <dc:subject/>
  <dc:title>Структура собственных доходов на 2016 год бюджета Дальнереченского городского округа</dc:title>
</cp:coreProperties>
</file>