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0FC6-5C4F-489B-A93D-F4437D22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04DF-479F-426C-B41C-147D72B6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44A9-4F0D-4E15-BB2D-01ED09AFB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E450-6E4F-4F2A-9DA1-62E0A484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38D7-7254-475B-9A4F-F82FDA55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A9D3-712C-4DE2-A22A-1E710A27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05C4-36B7-4A16-8CE4-365FD63C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5505-F505-4DE5-8C1C-2245DA67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3CFF-A6D8-44CF-A9EB-FD04B8C0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FBE5-14EE-4A2E-9760-54F5EB09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7864-96E5-4DFA-AAFB-07182B37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9F2A-4CA8-4D20-B96C-45BA39C2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661B-6CA3-4035-94ED-8D427FE6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D8CA-3C8A-458E-82C8-1CAC02F6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9018-C7B3-472F-9CDB-C6091585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7D40-D483-4F50-B84E-1AAA3454A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A88E-6056-4E43-8A78-21657CD06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C7EA-4400-4B72-B2FE-79141D4D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757B-C316-4F74-820B-C1A845B6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4C77-381D-4053-B8D8-B88C5590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A2A5-86AC-4F87-9B20-1A1BC2A0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5B92-57A9-4BAB-BB73-B6927FD4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F0D6-1C19-4B8C-9AFE-C9CB071C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4E86-6806-4AA7-B055-0AD4068C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F680-ADED-49DB-BA0A-AD3C1DD2279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4CD7-AD25-40A0-B72A-E7B5D1173D0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40:13Z</dcterms:modified>
  <cp:revision>45</cp:revision>
  <dc:subject/>
  <dc:title>Структура собственных доходов на 2016 год бюджета Дальнереченского городского округа</dc:title>
</cp:coreProperties>
</file>