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2A25-6D87-4590-8373-E05BA8F45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D2E2-907B-4594-9EE3-2A8C5525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0F17-0F41-47C5-9EBF-6421FDA03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1B03-67A7-4999-AC18-060028A0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27B6-927E-423B-88B8-C6CBE76F3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0CC7-E36B-4E34-85A3-1396064D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B93A-14FC-4E5C-96D3-AC97377C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0D97-6FBA-4A00-A3D0-F8350834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7E9D-AEF4-44C7-B3F6-16A216FE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C08B-D79B-47FF-A759-E32BA346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AC10-45F8-4C45-96C5-8F70AD48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B8F7-7FF1-42A9-BB92-3AA525E4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F36A-A872-4AEB-99DA-09BE5D08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BB85-B92C-46BB-993D-7CFBBD99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BC77-1EBA-4ABA-9A68-7D2A53E4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B224-F717-47EE-9090-D09CD56D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B04D-04BB-451D-B8BF-4F460120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FA41-8F2A-4CD3-AB55-5D1581ED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BDCC-CD68-4B7F-B734-728781BA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1A44-6D2B-4762-A2E0-E0EF5509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E6EF-735B-44E8-AA29-0082E1C7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A3B9-0348-4CDC-955A-CBB07801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3A09-DD7B-4C9E-BF13-BEF3AA97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5E29-FBB8-423B-AB48-546465DF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84EA-0618-4758-9FCA-F1E37B7CCB5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DCAB-2A18-4C49-BFE8-8B13C8A4508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1-01-29T05:53:42Z</dcterms:modified>
  <cp:revision>46</cp:revision>
  <dc:subject/>
  <dc:title>Структура собственных доходов на 2016 год бюджета Дальнереченского городского округа</dc:title>
</cp:coreProperties>
</file>