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A02-B02A-46EC-96A0-167C53D6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EEB-01D2-4C7D-BB16-4856112B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443-0848-46AE-8A28-47F67294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786-DCA9-41EB-82A3-551AB4CA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AA3-E59A-4887-A850-B28EB367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40B-8D1E-44F0-9C7A-73CDD849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463-9A85-4183-B2C4-351B0689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EF4-F205-479C-B933-2DE38273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B72-5CF1-46A7-8FE5-E03D2D9B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3C9-2969-44ED-9288-9B37D84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388-96DE-47AB-8D99-42F26A27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135-1F7A-4668-B652-8D713C8C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4E7-D6CA-47A0-8F62-9B63C8B6D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1042920" y="260280"/>
            <a:ext cx="720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ология рассмотрения и утверждения проекта решения о бюджете Дальнереченского городского округа на 2026 год и плановый период 2027 и 202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а основании решения Думы Дальнереченского городского округа от 08.09.2015 №63 «Об утверждении Положения «О бюджетном устройстве, бюджетном процессе в Дальнереченском городском округе»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5"/>
          <p:cNvSpPr/>
          <p:nvPr/>
        </p:nvSpPr>
        <p:spPr>
          <a:xfrm>
            <a:off x="206280" y="2868480"/>
            <a:ext cx="2016360" cy="388944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3889440"/>
              <a:gd name="textAreaBottom" fmla="*/ 3791160 h 3889440"/>
            </a:gdLst>
            <a:ahLst/>
            <a:rect l="textAreaLeft" t="textAreaTop" r="textAreaRight" b="textAreaBottom"/>
            <a:pathLst>
              <a:path w="21600" h="41662">
                <a:moveTo>
                  <a:pt x="3600" y="0"/>
                </a:moveTo>
                <a:arcTo wR="3600" hR="3600" stAng="16200000" swAng="-5400000"/>
                <a:lnTo>
                  <a:pt x="0" y="38062"/>
                </a:lnTo>
                <a:arcTo wR="3600" hR="3600" stAng="10800000" swAng="-5400000"/>
                <a:lnTo>
                  <a:pt x="18000" y="4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проекта решения «О бюджете Дальнереченского городского округа на 2026 год и плановый период 2027 и 2028 годов» в представительный орг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Думу ДГО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.11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6"/>
          <p:cNvSpPr/>
          <p:nvPr/>
        </p:nvSpPr>
        <p:spPr>
          <a:xfrm>
            <a:off x="2484360" y="2859120"/>
            <a:ext cx="1944720" cy="3889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889440"/>
              <a:gd name="textAreaBottom" fmla="*/ 3794760 h 3889440"/>
            </a:gdLst>
            <a:ahLst/>
            <a:rect l="textAreaLeft" t="textAreaTop" r="textAreaRight" b="textAreaBottom"/>
            <a:pathLst>
              <a:path w="21600" h="43196">
                <a:moveTo>
                  <a:pt x="3600" y="0"/>
                </a:moveTo>
                <a:arcTo wR="3600" hR="3600" stAng="16200000" swAng="-5400000"/>
                <a:lnTo>
                  <a:pt x="0" y="39596"/>
                </a:lnTo>
                <a:arcTo wR="3600" hR="3600" stAng="10800000" swAng="-5400000"/>
                <a:lnTo>
                  <a:pt x="18000" y="4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 по рассмотрению проекта решения о  бюджете ДГО на 2026 год и плановый период 2027 и 2028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:00 по адресу ул.Победы,13 конференц-з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4757760" y="2852640"/>
            <a:ext cx="2011320" cy="3889440"/>
          </a:xfrm>
          <a:custGeom>
            <a:avLst/>
            <a:gdLst>
              <a:gd name="textAreaLeft" fmla="*/ 97920 w 2011320"/>
              <a:gd name="textAreaRight" fmla="*/ 1913400 w 2011320"/>
              <a:gd name="textAreaTop" fmla="*/ 97920 h 3889440"/>
              <a:gd name="textAreaBottom" fmla="*/ 3791520 h 3889440"/>
            </a:gdLst>
            <a:ahLst/>
            <a:rect l="textAreaLeft" t="textAreaTop" r="textAreaRight" b="textAreaBottom"/>
            <a:pathLst>
              <a:path w="21600" h="41766">
                <a:moveTo>
                  <a:pt x="3600" y="0"/>
                </a:moveTo>
                <a:arcTo wR="3600" hR="3600" stAng="16200000" swAng="-5400000"/>
                <a:lnTo>
                  <a:pt x="0" y="38166"/>
                </a:lnTo>
                <a:arcTo wR="3600" hR="3600" stAng="10800000" swAng="-5400000"/>
                <a:lnTo>
                  <a:pt x="18000" y="41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решения Думы ДГО «О бюджете Дальнереченского городского округа на 2026 год и плановый период 2027 и 2028 годов» в первом чт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.12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6966000" y="2852640"/>
            <a:ext cx="1981080" cy="3889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889440"/>
              <a:gd name="textAreaBottom" fmla="*/ 3792960 h 3889440"/>
            </a:gdLst>
            <a:ahLst/>
            <a:rect l="textAreaLeft" t="textAreaTop" r="textAreaRight" b="textAreaBottom"/>
            <a:pathLst>
              <a:path w="21600" h="42403">
                <a:moveTo>
                  <a:pt x="3600" y="0"/>
                </a:moveTo>
                <a:arcTo wR="3600" hR="3600" stAng="16200000" swAng="-5400000"/>
                <a:lnTo>
                  <a:pt x="0" y="38803"/>
                </a:lnTo>
                <a:arcTo wR="3600" hR="3600" stAng="10800000" swAng="-5400000"/>
                <a:lnTo>
                  <a:pt x="18000" y="4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ешения Думы ДГО «О бюджете Дальнереченского городского округа на 2026 год и плановый период 2027 и 2028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5"/>
          <p:cNvSpPr/>
          <p:nvPr/>
        </p:nvSpPr>
        <p:spPr>
          <a:xfrm flipV="1">
            <a:off x="345600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1"/>
          <p:cNvSpPr/>
          <p:nvPr/>
        </p:nvSpPr>
        <p:spPr>
          <a:xfrm flipV="1">
            <a:off x="57625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2"/>
          <p:cNvSpPr/>
          <p:nvPr/>
        </p:nvSpPr>
        <p:spPr>
          <a:xfrm flipV="1">
            <a:off x="79567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>
            <a:off x="1224000" y="2205000"/>
            <a:ext cx="6732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1"/>
          <p:cNvSpPr/>
          <p:nvPr/>
        </p:nvSpPr>
        <p:spPr>
          <a:xfrm>
            <a:off x="4643280" y="1844640"/>
            <a:ext cx="0" cy="36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23"/>
          <p:cNvSpPr/>
          <p:nvPr/>
        </p:nvSpPr>
        <p:spPr>
          <a:xfrm flipV="1">
            <a:off x="1214280" y="221112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7T05:07:53Z</dcterms:created>
  <dc:creator>Куранова</dc:creator>
  <dc:description/>
  <dc:language>en-US</dc:language>
  <cp:lastModifiedBy>Ахметжанова НА</cp:lastModifiedBy>
  <cp:lastPrinted>2025-03-21T04:59:27Z</cp:lastPrinted>
  <dcterms:modified xsi:type="dcterms:W3CDTF">2025-11-17T06:52:48Z</dcterms:modified>
  <cp:revision>1231</cp:revision>
  <dc:subject/>
  <dc:title>Слайд 1</dc:title>
</cp:coreProperties>
</file>