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2B8D-0F9D-40A7-B682-97848F1A7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41AA-3F16-4E2A-A7FB-C353FAE3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1CC9-30EB-408D-B7A5-B5CFBC7B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E692-F442-4334-B5D9-F1729B14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2055-F1DE-4722-B4F1-EE04EF8A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6EC0-1A15-472E-8E52-34B8C211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A77B-C4BF-4619-A0C8-B47889A1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6CD3-9EDF-424B-80DD-4574C238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4DED-3DC5-4073-88C7-4BDA02D5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CDD2-CA0B-460E-96E4-FE316E3B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930C-ECEF-46C0-BD1C-8E61EF3A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24A2-5EAF-4C27-AEDE-13B61124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70A0-C439-494E-87C9-E71A704D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EF86-70F2-4ED0-B9E7-C9E1869A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038C-C816-4F95-AA75-3302018F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BB1F-778E-4643-927B-870A1166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FFBD-91DA-4A83-8AC3-711E9C11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8A286-F561-42EC-9CBD-1137978D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27532-438E-4828-92FC-7C63059B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7CAC7-3E62-4639-A11A-517038D3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E3E7C-15A0-43DF-9FEF-C09261A9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151DA-9842-4A89-B4B9-28867146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8BC6-D47B-444E-9B9E-249F29BA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2696E-7394-42A8-BF5D-3BA37EB2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FC29F-012A-4FFD-8075-CF2A857C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A94F1-9470-4D9F-8F1C-3E640359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6E676-35DE-42D2-A34D-4B1208D2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9AB05-DCFF-4B0F-A6AB-F7A1AD6C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DE29F-7EDB-4260-B57E-4360DEA7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4C5F3-54E1-4184-A54F-25FD92981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3E616-6F29-4E37-8439-A6873613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1630A-3D52-4240-A67B-777D2EB6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A9B17-CBCD-44D0-A39D-1D4E2858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A43A-AEAD-44F7-85B2-28542EF6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F4040-CE7B-4EBE-B2E1-A2170052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2876B-082E-4941-89AF-70574A55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D15B5-3E71-4782-8FB5-9A13CDDF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C18F7-A4D2-41D5-ADF3-F0BA8FBD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ADF32-C387-4D12-8BAC-99172E9C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0219F-240A-46E7-A3CC-F672FDA3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E23A4-699E-4B0B-9244-17287FBD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A01CF-B466-41CF-9D85-8A2690E7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46A0B-3CAE-4F4B-A592-B13DC5D9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4D53-D4EF-4776-BC4E-BDA46B9E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9C57-EB1B-4B8D-91D8-9A3BE713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A027-DCF9-4697-9F56-0261B8DA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1E60-F888-42BE-8A0F-80387937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B423-E16F-447C-9FE2-3FE2A1E5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7BE7-B47E-4665-A976-EB0819161FC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049D-C130-4930-868F-90999A197D6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1F66-8486-4E6C-B010-21DB858924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9A72-E208-487B-AA63-0D35DA23FB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6.12.2016 № № 88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7 год и плановый период 2018-2019 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752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4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3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2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2,8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35,65 млн.руб. (местный бюджет – 126,93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8,72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0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– 8,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9,0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6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</a:t>
            </a:r>
            <a:br>
              <a:rPr sz="1600"/>
            </a:b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ДЕЯТЕЛЬНОСТИ В 2017 ГОДУ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(млн.руб.)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5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351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6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7531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9,33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,32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0000" y="270000"/>
            <a:ext cx="8102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8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77920"/>
            <a:ext cx="77310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2,8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01-26T07:57:55Z</dcterms:modified>
  <cp:revision>114</cp:revision>
  <dc:subject/>
  <dc:title>Структура собственных доходов на 2016 год бюджета Дальнереченского городского округа</dc:title>
</cp:coreProperties>
</file>