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4790-3B0C-48BF-B47A-02611177C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C336-F816-42CA-9461-1586FC72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BDAC-A196-4C88-9D6B-551693474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1136-992D-45C4-B8AD-283152468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F16D-C521-4ECD-A063-5181977A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1328-B506-4AC8-9F09-B5C9AAFF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2BFE-C029-436B-9030-0E4560E9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5721-E614-4410-9C4A-2D8CECE3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7270-FBA9-4EAF-89B2-AD56220A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3B3A-3BE9-4BC0-926F-7EFF2C3C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02FE-4684-4F4E-AB08-C775DC9E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BECA-570E-49BC-A441-24A75FFA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BEF8-05E6-40AA-A8B6-D304A9B44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98360"/>
            <a:ext cx="8300880" cy="873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135080"/>
          <a:ext cx="4667040" cy="57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35080"/>
                    <a:ext cx="4667040" cy="57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219640" y="1138320"/>
          <a:ext cx="3456000" cy="5640480"/>
        </p:xfrm>
        <a:graphic>
          <a:graphicData uri="http://schemas.openxmlformats.org/drawingml/2006/table">
            <a:tbl>
              <a:tblPr/>
              <a:tblGrid>
                <a:gridCol w="1584000"/>
                <a:gridCol w="1872000"/>
              </a:tblGrid>
              <a:tr h="781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1937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3629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98360"/>
            <a:ext cx="8050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(млн.руб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12920" y="838080"/>
          <a:ext cx="8426160" cy="7796160"/>
        </p:xfrm>
        <a:graphic>
          <a:graphicData uri="http://schemas.openxmlformats.org/drawingml/2006/table">
            <a:tbl>
              <a:tblPr/>
              <a:tblGrid>
                <a:gridCol w="3960720"/>
                <a:gridCol w="1224000"/>
                <a:gridCol w="934920"/>
                <a:gridCol w="793800"/>
                <a:gridCol w="792000"/>
                <a:gridCol w="720720"/>
              </a:tblGrid>
              <a:tr h="289800"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, всего,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1T07:43:3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