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BA15-BC04-47D1-97A5-5A4600BAE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723F-361F-42F9-AC48-59C2EDF6A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FF5B-E1A0-47ED-8FA9-2C2CD419B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D039-58A8-4DCD-A7A4-EA6584A60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2F2F-F45D-4A41-A803-EF4BFE9A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7427-A229-49FA-80EC-AE6E2B60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644A-FAB2-4E79-A763-23F6AAB6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1BA0-8947-4D4F-AFC2-A8259B87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50CE-3CBF-4BFD-BB91-9FC3FD41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BF54-4973-464F-91AE-55205060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0B47-26EB-468C-B24A-7A5E5DFE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6456-1780-4192-971C-EBB7A467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AE48-2669-4358-BBFB-2C477883F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98360"/>
            <a:ext cx="8300880" cy="8733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24000" y="1135080"/>
          <a:ext cx="4667040" cy="57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35080"/>
                    <a:ext cx="4667040" cy="57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219640" y="1138320"/>
          <a:ext cx="3456000" cy="5640480"/>
        </p:xfrm>
        <a:graphic>
          <a:graphicData uri="http://schemas.openxmlformats.org/drawingml/2006/table">
            <a:tbl>
              <a:tblPr/>
              <a:tblGrid>
                <a:gridCol w="1584000"/>
                <a:gridCol w="1872000"/>
              </a:tblGrid>
              <a:tr h="781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1937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3629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98360"/>
            <a:ext cx="8050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(млн.руб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12920" y="838080"/>
          <a:ext cx="8426160" cy="7796160"/>
        </p:xfrm>
        <a:graphic>
          <a:graphicData uri="http://schemas.openxmlformats.org/drawingml/2006/table">
            <a:tbl>
              <a:tblPr/>
              <a:tblGrid>
                <a:gridCol w="3960720"/>
                <a:gridCol w="1224000"/>
                <a:gridCol w="934920"/>
                <a:gridCol w="793800"/>
                <a:gridCol w="792000"/>
                <a:gridCol w="720720"/>
              </a:tblGrid>
              <a:tr h="289800"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8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, всего,в том чис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9,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1,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6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,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2,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4,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 на восстановление автомобильных дорог и мос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1T07:43:3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