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EE22-8294-4DFA-BC19-833CEFBBB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0A29-50E0-44C9-9171-58417C33D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5EB6-DDFF-4929-9A0D-895D09A7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A77A5-1025-432A-A7EF-B94ABBAE3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9BC4D-A572-424C-9632-6C22CA283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B3BFD-FE5F-4D3F-B35B-08ABC2806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CA835-2409-4A60-A33D-E92ABB905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F6652-88B4-4777-9DC2-295B11C8C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4E3BD-AAD3-4B30-A630-A73DE2738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7E2C-9D64-4A96-8657-98AE48EC6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B25B7-1E23-45A6-BD77-294D74805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032A-D466-4C8C-8B2C-F6A1D7221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DC5D9-1733-4363-B3E7-2FC7E23AC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BBAA9-4383-44F9-9065-195CEB276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E89A2-D80E-49BA-90AE-AF8A5ADD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F7988-9D65-4749-A5DF-8910F016B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60452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78000"/>
            <a:ext cx="250236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BFC7E-341A-4495-AF7D-0568BCFE3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D1D9-74DF-4502-9D48-707F3083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99F8-B5CC-499E-8D8E-5F4DACD53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85027-7248-406D-969F-C32052DC3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920"/>
            <a:ext cx="777240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3346-80ED-4A79-9BB7-1338D1FE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5F73-C2DA-4825-9EB3-ACB7A6409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7800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458B-6069-4BEC-B761-62B4BB05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604520"/>
            <a:ext cx="37926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78000"/>
            <a:ext cx="7772400" cy="21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C527-AEA7-4062-BD9E-D3A706372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90600"/>
            <a:chOff x="0" y="0"/>
            <a:chExt cx="8686800" cy="489060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21640"/>
              <a:ext cx="8305920" cy="182520"/>
              <a:chOff x="380880" y="142164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2164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796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69040"/>
            <a:ext cx="19810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65440"/>
            <a:ext cx="297180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553F-AA5F-45F6-B900-59D8B181C37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9096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58720"/>
            <a:chOff x="0" y="0"/>
            <a:chExt cx="8763120" cy="595872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14320"/>
              <a:ext cx="8763120" cy="2444400"/>
              <a:chOff x="0" y="3514320"/>
              <a:chExt cx="8763120" cy="244440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14320"/>
                <a:ext cx="77724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43280"/>
                <a:ext cx="764856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895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4600"/>
              <a:ext cx="8077320" cy="304920"/>
              <a:chOff x="635040" y="534600"/>
              <a:chExt cx="8077320" cy="30492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4600"/>
                <a:ext cx="243864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688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92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604520"/>
            <a:ext cx="7772400" cy="454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69040"/>
            <a:ext cx="19047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65440"/>
            <a:ext cx="289548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65440"/>
            <a:ext cx="19051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CF63C-BA6D-48B8-999F-597956107D4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4"/>
          <p:cNvGraphicFramePr/>
          <p:nvPr/>
        </p:nvGraphicFramePr>
        <p:xfrm>
          <a:off x="831960" y="1577880"/>
          <a:ext cx="5105160" cy="495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1960" y="1577880"/>
                    <a:ext cx="5105160" cy="49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86920" y="343080"/>
            <a:ext cx="7417080" cy="10080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ru-RU" sz="1400" spc="-1" strike="noStrike">
                <a:solidFill>
                  <a:srgbClr val="330033"/>
                </a:solidFill>
                <a:latin typeface="Times New Roman"/>
              </a:rPr>
              <a:t>«СТРУКТУРА МУНИЦИПАЛЬНОГО ВНУТРЕННЕГО ДОЛГА НА 2019 ГОД И ПЛАНОВЫЙ ПЕРИОД 2020-2021 ГГ. (млн.руб.)»</a:t>
            </a: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6156360" y="1638360"/>
          <a:ext cx="2232000" cy="3379680"/>
        </p:xfrm>
        <a:graphic>
          <a:graphicData uri="http://schemas.openxmlformats.org/drawingml/2006/table">
            <a:tbl>
              <a:tblPr/>
              <a:tblGrid>
                <a:gridCol w="22320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иды заимствований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792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редиты кредитных организаций в валюте Российской Федер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юджетные кредиты от других бюджетов бюджетной системы Российской Федерации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  <a:tr h="1004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униципальные гарантии Дальнереченского городского округ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3300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3:46Z</dcterms:modified>
  <cp:revision>46</cp:revision>
  <dc:subject/>
  <dc:title>Структура собственных доходов на 2016 год бюджета Дальнереченского городского округа</dc:title>
</cp:coreProperties>
</file>