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A185A-FC30-44F0-9510-A8AD3902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535F-D91C-4686-973C-509758152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A594-499E-4676-9A21-5027E6BB0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869F-8DB8-465B-AF24-B5018E962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651DA-F2AD-48AE-BB0D-D73C94046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C9F1-21E3-441B-922E-4926015EE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B870D-2F2F-43FB-9A9C-B28726E2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BA1B1-2E65-4673-8081-BBA1154EB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74BF-733D-438E-ABE7-2704F261F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ECF84-0587-40AF-A785-BAA571D8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1F8D5-68EF-4CBB-A2D2-A1ED0A640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3A38-20FC-4F45-AB8F-2EB95512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5798-4E9E-4240-87BA-803978133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52B0B-905F-4FC5-93AE-7124FAF7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A901E-FC6F-4AA5-8326-A524D1726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93AF3-ECB7-4612-9A03-B1258AFE8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6969B-DD03-46B6-8980-CAADC56D3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4676-B5D5-420D-9832-2AB0107E4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2F913-502C-48BC-AF6A-DE11A3F11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FA560-D28F-4EE5-BDAF-543E88681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7E3-4151-41D7-945F-412680619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21ED4-2A4B-4775-99D9-E2171A81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737A9-4C3E-44E0-BA4A-F03EBD96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6999-4935-4008-AC47-535628508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F9EDB-014C-475F-A4F7-9E6C8E6FA19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04196-5D20-4659-9055-DFA241B81E7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22840" y="256680"/>
            <a:ext cx="7959240" cy="52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ИОРИТЕТНЫЙ ПРОЕКТ «ФОРМИРОВАНИЕ КОМФОРТНОЙ ГОРОДСКОЙ СРЕДЫ»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Цель приоритетного проекта - создание условий для системного повышения качества и комфорта городской среды на территории Дальнереченского городского округа путем реализации ежегодно (в период с 2017 по 2022 годы) комплекса первоочередных мероприятий по благоустройств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МЕРОПРИЯТИЯ, НАПРАВЛЕННЫЕ НА ДОСТИЖЕНИЕ ПОСТАВЛЕННЫХ ЦЕЛЕЙ</a:t>
            </a: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Благоустройство дворовых территорий и мест общего пользования», в т.ч.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дворовых территорий многоквартир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жилых дом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Благоустройство мест общего пользов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«Обустройство территории городского парка»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Мероприятия осуществляются в рамках муниципальной программы «Формирование современной городской среды Дальнереченского городского округа» на 2018-2022 годы, утвержденной постановлением администрации ДГО от 31.10.2017 № 840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ПРОГНОЗИРУЕМЫЙ ОБЩИЙ ОБЪЕМ ФИНАНСИРОВАНИЯ ПРОЕКТА – 261,97 МЛН.РУБ.,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В Т.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0912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федеральн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2,2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95,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99,97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47960" y="1599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краевых средств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2,4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2,43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10,4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10,91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0912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 счет средств местного бюдже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8 год – 0,6 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19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0 год – 0,61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1 год – 2,6  млн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2022 год – 2,73 млн.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647960" y="3885840"/>
            <a:ext cx="38862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инансовое участие собственников помещений в размере не менее 5% от стоимости работ по благоустройству в рамках минимального и дополнительного перечней работ  и (или) трудовое участие в 2018 год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ОЖИДАЕМЫЕ РЕЗУЛЬТАТЫ РЕАЛИЗАЦИИ ПРОЕКТ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166 дворовых территорий многоквартирных жилых домов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Благоустройство 5 общественных территорий городского округа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Обустройство территории городского парка Дальнереченского городского округа – площадь обустроенного места 28600 кв.м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31</cp:lastModifiedBy>
  <dcterms:modified xsi:type="dcterms:W3CDTF">2018-02-02T01:06:53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