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9F75-20EA-429C-A0E9-837FCEF068E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5D5AB-0249-46B2-A6CC-DD14721148AB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7CD52-85C4-4FA2-9E53-1896C3FBB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7ADAD-B1D0-4609-B33B-06E9C671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F6E-83E0-45B4-9988-CF1CB2FBA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702F-7B17-4240-B3C2-5CB846473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E1F5-8F06-4930-AC1C-95E7099C1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61C84-23D3-4CA7-8C44-5BD1F8BEF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D95E1-A90B-4AFD-8893-9AEF47FE2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FBAB9-4F5B-47D4-8416-607B36F6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1A93E-EBCE-4916-9F1B-76532399C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736CA-6E88-4707-A428-AE39D1858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65670-1F86-498B-AE60-12D20EF94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9CCA-A25E-47F6-872B-806C2AF9A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26326-A1BF-4FED-82C7-7A5AD219A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EA4D3-ED67-43CB-8C08-272313DFD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45F76-2B43-49BC-9658-1315331F5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0437-1976-407F-A871-92E644A04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7911F-99DE-4ECB-B7DB-D8566479B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FA5CEA-90CD-40FE-AC51-484C29E11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8C55E-7BC9-45D8-8862-79ED49895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E022E8-9525-4FF5-BA2A-23196F44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3E546-82B5-4F06-9CBE-AD556089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8DAA95-65CC-44FA-A288-CF36D92F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AABD-16AC-4814-BE7C-1C5EAD89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DB6EA-9BD0-434A-9439-70A75AD16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B3C516-CA21-4512-9C30-7ED299A28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B96EE-E09B-43E8-BAF0-2FA5AE4E1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2CF5C-85BA-41C5-A746-CE92E8AD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DC764-1A33-4550-9207-C6B3B3B2E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DE8D4-164A-478D-9635-8357136C9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75C71-0AE9-45B3-AC01-CDEF90018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89BCAA-FE34-4E6C-B61C-8E9EC9F68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27739-17EC-4500-9002-217E9640C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D6B3C0-A06F-48CF-B724-A395B46DD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3F576-511B-4CAD-A67D-3CCC7FB19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D5DAF9-2CD4-4099-815E-056ADC65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A26B5-1A2E-4D14-B83F-FF626201F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C5EAA-DD91-4A55-A28B-7578A183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F79ED4-A128-487D-A274-C1BCF9FB1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33702-8822-4253-9C7A-C11C2CB04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E310D-B1F2-4C64-BD56-E1D121E66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66D5AB-24A7-439C-B937-DBDDEF43D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B7BD6E-35E9-49EF-BAFE-9F3172B087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43C3F4-51FD-4AF2-8BD6-8D7DA9EA7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BBA436-73F0-455F-A43C-AB3C13B09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E778-F5F2-453C-846B-9F839106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777E7E-ADFE-48ED-AA9E-023DCBE76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4C8564-0A50-4D87-981A-43E7C1CB2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25E36-E45A-4C69-A733-A1D75CA2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F509B9-C307-4DB6-9CB7-09B30921C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148278-6DED-402A-A817-4B957E77D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F78DBB-7234-4914-83D0-F030A2911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CBAFB-4AA8-4800-AC22-E89BA438C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B8F69-8F4C-4F7E-8028-0D79816FD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110E19-2CCA-4479-A86D-B1A7A7CE2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CA9AF-0DDA-44B5-8E34-6BCA55B36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9DD1C-546F-4E62-B888-AC3FA889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64D5F-A26D-4D73-8314-1C708B728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0E6EF-F3D0-4A0C-8B78-DCA68A35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93E058-35F3-4C70-B7C6-0190FABC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36FDB-5B7B-4ED7-9CCA-4E93E143D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E766A4-A605-4BA8-B27A-16139BAD7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A4E7FF-5EBF-4725-B819-F48EAE78A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C1368B-3AE5-4DCF-8339-029718A89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14941D-95E9-422A-9047-25CA7BFFF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7EAAB-583E-4AEC-974F-2470BE84E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6B48E4-80BA-459B-8B3E-AB95BAF5D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2540-8724-4357-919D-26D7213F5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41136D-A7C6-433C-9909-9F8DF8CFF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579914-95DC-4657-A2F3-3CACE6F58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D2C05F-7CDC-460B-83E6-4B77C8268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AC3DC-E862-438E-AAE1-92F7D92D6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5D4-C994-424D-8E7B-F4B2F119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20E91-4F4D-43E6-A23F-7710F3D3CCE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56306-683E-4163-8B71-DC1BF41B18D1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E3A9A-BCAC-402F-A334-2DAEF7A4068B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58348-00F1-4426-A9AB-1E4ECD2ADA62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6C182-9FD8-46C5-BDE0-84E66CE91E8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4920"/>
              <a:chOff x="637560" y="534600"/>
              <a:chExt cx="8109000" cy="30492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49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688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21D2-049B-45A0-A12D-580C4FCDD4BA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1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507816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84,1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оздание в школах, расположенных в сельской местности, условий для занятий физической культурой и спортом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29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46Z</dcterms:modified>
  <cp:revision>161</cp:revision>
  <dc:subject/>
  <dc:title>Структура собственных доходов на 2016 год бюджета Дальнереченского городского округа</dc:title>
</cp:coreProperties>
</file>