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</p:sldIdLst>
  <p:sldSz cx="9180513" cy="687546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 type="sldImg"/>
          </p:nvPr>
        </p:nvSpPr>
        <p:spPr>
          <a:xfrm>
            <a:off x="1141560" y="685440"/>
            <a:ext cx="4574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FF7A0-799F-4C4D-AD1C-4DA235E4C25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ECCB-2AF1-4EB0-82AF-7179027BB8D2}" type="slidenum">
              <a:rPr b="0" lang="ru-RU" sz="12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1560" y="685800"/>
            <a:ext cx="457488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439F-FD75-4032-8963-D217080B7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468E-1AD8-4B0E-A46B-CAF774015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4D7D-47A3-48DB-B482-176005E8C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9A3B-1E1B-4E41-B962-D0830A1B4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07C3A-5DDE-4925-BD46-CBCA08383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5AF638-4A02-4227-8C1F-58D5270BD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C516B-5E13-4CA8-81DC-AD3200E24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F40D3-F0BB-44C4-9842-96ABD64EF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47B47-8439-4CE9-A4D2-DA38E4AA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15E7B-4121-43E5-B4CF-23AA9814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9640A-6FB2-4F22-8E41-D74CBF60A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5D3C-FF10-414F-BEB4-CAD296CE9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2CA23-D033-4DF2-BE50-CAAF802E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FB325-9428-42FB-A64E-82EE6DF98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0A161-4F08-4594-A96E-46DB945D7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E7E3-080D-49E2-8EC8-7C1BA5B02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9F7C9-A76E-44CA-9AA4-C6D0F2757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928072-7085-4C39-B1F3-0CAED88EF3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B0B084-39EF-4DB9-9C0D-EE4450F0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791C3E-0236-4073-8233-0A7C3D925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85268-387E-4F67-B9A3-76EB5E187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D398A-98A6-4498-8B49-CD6904CD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171A-5393-4F35-B181-20BC4360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469FF-23CB-4043-8F35-35A768424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A7D07F-07DF-4199-AB8D-B8350889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D80EEE-F046-49D1-808B-C019F4B8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BDE2D7-D4FE-4790-BD22-F01BC1887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FD6B8-C897-4EF6-8267-CFD734F2F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0164CB-B71A-41C4-BBF8-2F280388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7FE6A-F593-4B12-97DC-C894EB9A0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A4677C-8161-4E98-A908-FC780B3AF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5A684-0E52-42D2-B4A0-05127213A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7AD2A-F459-47D0-B502-88266704B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F7A6-CF30-4E75-B007-401B4C08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DE872F-A7DB-4DCB-A2C4-B0DD7D2EF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C45AA4-4EB3-4FDF-BFDA-ED253EDF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677613-BF63-4674-A3BA-9A2EC230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B0F7AE-1E1C-4E40-B6F0-0EE840DEA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2FB88C-FFA6-40E2-AB41-6821983CE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6783F-28F7-482C-88E7-35ECA33A7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583571-85D1-46CE-9E41-5B0CDBEFD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9335FC-005E-40B7-8E9F-4F8FE79D5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2BD055-C4F4-4C18-AE17-C1B41C445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1E057C-D83D-4BAA-B923-B59E2133B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59BE-7715-4CC3-97F4-8BFB1865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EAD0D4-053A-4731-AEC2-410ECEAA5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FD430-6158-420B-8500-0FC1E81C2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7AF93-51A3-437D-8900-D4F7BE6FB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BBC34C-332F-4C61-B689-C32D7FDBF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A5D06D-CA46-457B-9422-4FDC74A3C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BD4D12-5AAE-47CD-BC6D-63492A705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3EB018-7EB1-4339-95F4-D06A84179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45727-25C3-45BF-AD67-DAEEBF82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F1E33-DC49-4B60-BFBA-BC0F1341E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8B46A1-3A7A-4E54-A4F7-CA0D91CEA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1F2C-79AC-4E1D-9C79-108ACA31B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C3555A-71FB-430A-871F-5128393B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A525D-21D7-462C-9671-9C998AF0C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5D71B2-F4DA-4A23-BCB6-C355CE20B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633019-58BA-4013-AD8A-E127FA98E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DE4FCC-0369-43E1-A851-706DA7F6D2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D0ACD-8ABC-451C-A120-05F19F6B5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917640" y="277920"/>
            <a:ext cx="7804080" cy="53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BEDDB-A64D-4681-AB54-ADFB3E43A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6C5802-FF3F-4604-BFF2-FA1F4ECED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A35533-1AA7-48AC-91E6-F0E03E7D9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442FE7-AD12-49CE-A6F3-13E84AB27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0946-D75A-46EB-9D62-D6D0B8F3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591C5-9810-49AD-8DF8-3C4ADD1DB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2321E4-20C5-46D3-9C1D-749EFE981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5564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195240" y="160452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9176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5564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195240" y="3978000"/>
            <a:ext cx="251280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FD06DC-F5A3-4C83-9A54-5B6FEC2E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16520" y="397800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CFAA-E560-4DD4-8931-8290AC4A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764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16520" y="1604520"/>
            <a:ext cx="3808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7640" y="3978000"/>
            <a:ext cx="7804080" cy="21672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B61F-37EB-4A0F-B073-0509FB48B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49280" cy="6876360"/>
            <a:chOff x="0" y="0"/>
            <a:chExt cx="7649280" cy="687636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12280" cy="6876360"/>
              <a:chOff x="0" y="0"/>
              <a:chExt cx="3212280" cy="687636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5000" cy="687636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8640" y="0"/>
                <a:ext cx="2753640" cy="116964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9320" y="1986480"/>
              <a:ext cx="7419960" cy="319680"/>
              <a:chOff x="229320" y="1986480"/>
              <a:chExt cx="7419960" cy="31968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11640" y="1986480"/>
                <a:ext cx="7037640" cy="31788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9320" y="1986480"/>
                <a:ext cx="395280" cy="31968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4240" y="6259680"/>
            <a:ext cx="590400" cy="490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6C5F0-997C-471D-AB4A-C5291840535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152280"/>
            <a:ext cx="8721360" cy="6113160"/>
            <a:chOff x="0" y="152280"/>
            <a:chExt cx="8721360" cy="6113160"/>
          </a:xfrm>
        </p:grpSpPr>
        <p:sp>
          <p:nvSpPr>
            <p:cNvPr id="49" name="AutoShape 3"/>
            <p:cNvSpPr/>
            <p:nvPr/>
          </p:nvSpPr>
          <p:spPr>
            <a:xfrm>
              <a:off x="382320" y="534600"/>
              <a:ext cx="8339040" cy="573084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0" y="152280"/>
              <a:ext cx="8568720" cy="122256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" name="Line 5"/>
            <p:cNvSpPr/>
            <p:nvPr/>
          </p:nvSpPr>
          <p:spPr>
            <a:xfrm>
              <a:off x="0" y="1222200"/>
              <a:ext cx="81097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458640" y="6265440"/>
            <a:ext cx="2143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137040" y="626544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78280" y="6265440"/>
            <a:ext cx="214308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227AE-D98A-4C00-B38E-D889CCD6199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Group 2"/>
          <p:cNvGrpSpPr/>
          <p:nvPr/>
        </p:nvGrpSpPr>
        <p:grpSpPr>
          <a:xfrm>
            <a:off x="0" y="0"/>
            <a:ext cx="8721000" cy="4890600"/>
            <a:chOff x="0" y="0"/>
            <a:chExt cx="8721000" cy="4890600"/>
          </a:xfrm>
        </p:grpSpPr>
        <p:sp>
          <p:nvSpPr>
            <p:cNvPr id="94" name="Rectangle 3"/>
            <p:cNvSpPr/>
            <p:nvPr/>
          </p:nvSpPr>
          <p:spPr>
            <a:xfrm>
              <a:off x="0" y="0"/>
              <a:ext cx="611640" cy="489060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95" name="Group 4"/>
            <p:cNvGrpSpPr/>
            <p:nvPr/>
          </p:nvGrpSpPr>
          <p:grpSpPr>
            <a:xfrm>
              <a:off x="382320" y="1421640"/>
              <a:ext cx="8338680" cy="182520"/>
              <a:chOff x="382320" y="1421640"/>
              <a:chExt cx="8338680" cy="182520"/>
            </a:xfrm>
          </p:grpSpPr>
          <p:sp>
            <p:nvSpPr>
              <p:cNvPr id="96" name="Rectangle 5"/>
              <p:cNvSpPr/>
              <p:nvPr/>
            </p:nvSpPr>
            <p:spPr>
              <a:xfrm>
                <a:off x="6885000" y="1421640"/>
                <a:ext cx="18360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Line 6"/>
              <p:cNvSpPr/>
              <p:nvPr/>
            </p:nvSpPr>
            <p:spPr>
              <a:xfrm>
                <a:off x="382320" y="1497960"/>
                <a:ext cx="833868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dt" idx="7"/>
          </p:nvPr>
        </p:nvSpPr>
        <p:spPr>
          <a:xfrm>
            <a:off x="917280" y="6269040"/>
            <a:ext cx="198900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ftr" idx="8"/>
          </p:nvPr>
        </p:nvSpPr>
        <p:spPr>
          <a:xfrm>
            <a:off x="3365640" y="6265440"/>
            <a:ext cx="298440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sldNum" idx="9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7902F-A424-4CB7-873B-D93AD6C4F339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2"/>
          <p:cNvSpPr/>
          <p:nvPr/>
        </p:nvSpPr>
        <p:spPr>
          <a:xfrm>
            <a:off x="0" y="4890960"/>
            <a:ext cx="61272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0" name="Group 2"/>
          <p:cNvGrpSpPr/>
          <p:nvPr/>
        </p:nvGrpSpPr>
        <p:grpSpPr>
          <a:xfrm>
            <a:off x="0" y="0"/>
            <a:ext cx="5890680" cy="6876720"/>
            <a:chOff x="0" y="0"/>
            <a:chExt cx="5890680" cy="6876720"/>
          </a:xfrm>
        </p:grpSpPr>
        <p:sp>
          <p:nvSpPr>
            <p:cNvPr id="141" name="Rectangle 3"/>
            <p:cNvSpPr/>
            <p:nvPr/>
          </p:nvSpPr>
          <p:spPr>
            <a:xfrm>
              <a:off x="0" y="0"/>
              <a:ext cx="4590360" cy="687672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2" name="AutoShape 4"/>
            <p:cNvSpPr/>
            <p:nvPr/>
          </p:nvSpPr>
          <p:spPr>
            <a:xfrm>
              <a:off x="688320" y="993240"/>
              <a:ext cx="5202360" cy="190980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43" name="Group 5"/>
          <p:cNvGrpSpPr/>
          <p:nvPr/>
        </p:nvGrpSpPr>
        <p:grpSpPr>
          <a:xfrm>
            <a:off x="3646440" y="4903920"/>
            <a:ext cx="4895640" cy="318960"/>
            <a:chOff x="3646440" y="4903920"/>
            <a:chExt cx="4895640" cy="318960"/>
          </a:xfrm>
        </p:grpSpPr>
        <p:sp>
          <p:nvSpPr>
            <p:cNvPr id="144" name="AutoShape 6"/>
            <p:cNvSpPr/>
            <p:nvPr/>
          </p:nvSpPr>
          <p:spPr>
            <a:xfrm flipH="1">
              <a:off x="3646440" y="4903920"/>
              <a:ext cx="4644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45" name="AutoShape 7"/>
            <p:cNvSpPr/>
            <p:nvPr/>
          </p:nvSpPr>
          <p:spPr>
            <a:xfrm>
              <a:off x="8281080" y="4903920"/>
              <a:ext cx="26100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840960" y="2368440"/>
            <a:ext cx="7723080" cy="37353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 type="dt" idx="10"/>
          </p:nvPr>
        </p:nvSpPr>
        <p:spPr>
          <a:xfrm>
            <a:off x="2448000" y="6265440"/>
            <a:ext cx="213840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 type="ftr" idx="11"/>
          </p:nvPr>
        </p:nvSpPr>
        <p:spPr>
          <a:xfrm>
            <a:off x="5815080" y="6265440"/>
            <a:ext cx="2908080" cy="47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 type="sldNum" idx="12"/>
          </p:nvPr>
        </p:nvSpPr>
        <p:spPr>
          <a:xfrm>
            <a:off x="76320" y="6265440"/>
            <a:ext cx="590400" cy="4906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CF360-9183-4763-B6B8-97F95680DB35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Group 2"/>
          <p:cNvGrpSpPr/>
          <p:nvPr/>
        </p:nvGrpSpPr>
        <p:grpSpPr>
          <a:xfrm>
            <a:off x="0" y="930240"/>
            <a:ext cx="9027720" cy="4506480"/>
            <a:chOff x="0" y="930240"/>
            <a:chExt cx="9027720" cy="4506480"/>
          </a:xfrm>
        </p:grpSpPr>
        <p:sp>
          <p:nvSpPr>
            <p:cNvPr id="188" name="AutoShape 3"/>
            <p:cNvSpPr/>
            <p:nvPr/>
          </p:nvSpPr>
          <p:spPr>
            <a:xfrm>
              <a:off x="688320" y="2075760"/>
              <a:ext cx="7421400" cy="336096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89" name="Rectangle 4"/>
            <p:cNvSpPr/>
            <p:nvPr/>
          </p:nvSpPr>
          <p:spPr>
            <a:xfrm>
              <a:off x="229320" y="930240"/>
              <a:ext cx="7191720" cy="99288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0" name="AutoShape 5"/>
            <p:cNvSpPr/>
            <p:nvPr/>
          </p:nvSpPr>
          <p:spPr>
            <a:xfrm>
              <a:off x="0" y="1388520"/>
              <a:ext cx="9027720" cy="18331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800" rIns="9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91" name="Line 6"/>
            <p:cNvSpPr/>
            <p:nvPr/>
          </p:nvSpPr>
          <p:spPr>
            <a:xfrm>
              <a:off x="0" y="3069000"/>
              <a:ext cx="833940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12360" y="1604880"/>
            <a:ext cx="7954920" cy="44323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 type="dt" idx="13"/>
          </p:nvPr>
        </p:nvSpPr>
        <p:spPr>
          <a:xfrm>
            <a:off x="458640" y="6265800"/>
            <a:ext cx="214344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 type="ftr" idx="14"/>
          </p:nvPr>
        </p:nvSpPr>
        <p:spPr>
          <a:xfrm>
            <a:off x="3137040" y="6270120"/>
            <a:ext cx="29066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 type="sldNum" idx="15"/>
          </p:nvPr>
        </p:nvSpPr>
        <p:spPr>
          <a:xfrm>
            <a:off x="6578280" y="6265800"/>
            <a:ext cx="2143080" cy="4730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5A31-4C86-4E46-BC53-A7EFD672F6D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0"/>
            <a:ext cx="8797320" cy="5958720"/>
            <a:chOff x="0" y="0"/>
            <a:chExt cx="8797320" cy="5958720"/>
          </a:xfrm>
        </p:grpSpPr>
        <p:sp>
          <p:nvSpPr>
            <p:cNvPr id="234" name="Rectangle 3"/>
            <p:cNvSpPr/>
            <p:nvPr/>
          </p:nvSpPr>
          <p:spPr>
            <a:xfrm>
              <a:off x="0" y="0"/>
              <a:ext cx="1759320" cy="48898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7640"/>
                  <a:tab algn="l" pos="1835280"/>
                  <a:tab algn="l" pos="2752560"/>
                  <a:tab algn="l" pos="3670200"/>
                  <a:tab algn="l" pos="4587840"/>
                  <a:tab algn="l" pos="5505480"/>
                  <a:tab algn="l" pos="6423120"/>
                  <a:tab algn="l" pos="7340760"/>
                  <a:tab algn="l" pos="8258040"/>
                  <a:tab algn="l" pos="9175680"/>
                  <a:tab algn="l" pos="1009332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5" name="Group 4"/>
            <p:cNvGrpSpPr/>
            <p:nvPr/>
          </p:nvGrpSpPr>
          <p:grpSpPr>
            <a:xfrm>
              <a:off x="0" y="3514320"/>
              <a:ext cx="8797320" cy="2444400"/>
              <a:chOff x="0" y="3514320"/>
              <a:chExt cx="8797320" cy="2444400"/>
            </a:xfrm>
          </p:grpSpPr>
          <p:sp>
            <p:nvSpPr>
              <p:cNvPr id="236" name="Rectangle 5"/>
              <p:cNvSpPr/>
              <p:nvPr/>
            </p:nvSpPr>
            <p:spPr>
              <a:xfrm>
                <a:off x="994320" y="3514320"/>
                <a:ext cx="7803000" cy="244440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Rectangle 6"/>
              <p:cNvSpPr/>
              <p:nvPr/>
            </p:nvSpPr>
            <p:spPr>
              <a:xfrm>
                <a:off x="1042200" y="3743280"/>
                <a:ext cx="7678440" cy="21438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7"/>
              <p:cNvSpPr/>
              <p:nvPr/>
            </p:nvSpPr>
            <p:spPr>
              <a:xfrm>
                <a:off x="0" y="4889520"/>
                <a:ext cx="9943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39" name="Group 8"/>
            <p:cNvGrpSpPr/>
            <p:nvPr/>
          </p:nvGrpSpPr>
          <p:grpSpPr>
            <a:xfrm>
              <a:off x="637560" y="534600"/>
              <a:ext cx="8109000" cy="303480"/>
              <a:chOff x="637560" y="534600"/>
              <a:chExt cx="8109000" cy="303480"/>
            </a:xfrm>
          </p:grpSpPr>
          <p:sp>
            <p:nvSpPr>
              <p:cNvPr id="240" name="Rectangle 9"/>
              <p:cNvSpPr/>
              <p:nvPr/>
            </p:nvSpPr>
            <p:spPr>
              <a:xfrm>
                <a:off x="6298560" y="534600"/>
                <a:ext cx="2448000" cy="30348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1800" rIns="91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7640"/>
                    <a:tab algn="l" pos="1835280"/>
                    <a:tab algn="l" pos="2752560"/>
                    <a:tab algn="l" pos="3670200"/>
                    <a:tab algn="l" pos="4587840"/>
                    <a:tab algn="l" pos="5505480"/>
                    <a:tab algn="l" pos="6423120"/>
                    <a:tab algn="l" pos="7340760"/>
                    <a:tab algn="l" pos="8258040"/>
                    <a:tab algn="l" pos="9175680"/>
                    <a:tab algn="l" pos="1009332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0"/>
              <p:cNvSpPr/>
              <p:nvPr/>
            </p:nvSpPr>
            <p:spPr>
              <a:xfrm>
                <a:off x="637560" y="687240"/>
                <a:ext cx="810900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7640" y="1604520"/>
            <a:ext cx="7804080" cy="4543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rmAutofit/>
          </a:bodyPr>
          <a:p>
            <a:pPr marL="344520" indent="-34452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6280" indent="-2876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4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6388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6388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915840" y="6269040"/>
            <a:ext cx="1913040" cy="458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366720" y="6265440"/>
            <a:ext cx="29084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808680" y="6265440"/>
            <a:ext cx="1913040" cy="459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47311-206D-4C43-8463-49CBB18C2DB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526320" y="238680"/>
            <a:ext cx="7799040" cy="5648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ОСНОВНЫЕ ПАРАМЕТРЫ БЮДЖЕТА ДАЛЬНЕРЕЧЕНСКОГО ГОРОДСКОГО ОКРУГА НА 2019 ГОД И ПЛАНОВЫЙ ПЕРИОД 2020-2021 ГОДЫ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6666"/>
                </a:solidFill>
                <a:latin typeface="Times New Roman"/>
              </a:rPr>
              <a:t>(млн.руб)</a:t>
            </a:r>
            <a:endParaRPr b="1" lang="en-US" sz="10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1" name=""/>
          <p:cNvGraphicFramePr/>
          <p:nvPr/>
        </p:nvGraphicFramePr>
        <p:xfrm>
          <a:off x="701640" y="990720"/>
          <a:ext cx="7777080" cy="5333760"/>
        </p:xfrm>
        <a:graphic>
          <a:graphicData uri="http://schemas.openxmlformats.org/drawingml/2006/table">
            <a:tbl>
              <a:tblPr/>
              <a:tblGrid>
                <a:gridCol w="2241720"/>
                <a:gridCol w="1214280"/>
                <a:gridCol w="1152720"/>
                <a:gridCol w="1008000"/>
                <a:gridCol w="1181160"/>
                <a:gridCol w="979200"/>
              </a:tblGrid>
              <a:tr h="5025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68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6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1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7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17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7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39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безвозмездн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96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бственн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 ни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58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2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9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ефицит (профицит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4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покрытия дефицита, в том числе: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301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статки на счете бюджет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аемные сред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 txBox="1"/>
          <p:nvPr/>
        </p:nvSpPr>
        <p:spPr>
          <a:xfrm>
            <a:off x="778320" y="562320"/>
            <a:ext cx="7866720" cy="1054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СТРУКТУРА РАСХОДОВ БЮДЖЕТА ДАЛЬНЕРЕЧЕНСКОГО ГОРОДСКОГО ОКРУГА НА ФИНАНСОВОЕ ОБЕСПЕЧЕНИЕ МУНИЦИПАЛЬНЫХ ПРОГРАММ И НЕПРОГРАММНЫХ НАПРАВЛЕНИЙ НА 2019 ГОД  </a:t>
            </a:r>
            <a:br>
              <a:rPr sz="1500"/>
            </a:br>
            <a:r>
              <a:rPr b="1" lang="ru-RU" sz="1500" spc="-1" strike="noStrike">
                <a:solidFill>
                  <a:srgbClr val="006666"/>
                </a:solidFill>
                <a:latin typeface="Times New Roman"/>
              </a:rPr>
              <a:t>757,69 млн.руб.</a:t>
            </a:r>
            <a:endParaRPr b="1" lang="en-US" sz="15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5" name="Object 4"/>
          <p:cNvGraphicFramePr/>
          <p:nvPr/>
        </p:nvGraphicFramePr>
        <p:xfrm>
          <a:off x="1130400" y="2133720"/>
          <a:ext cx="7086600" cy="452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2133720"/>
                    <a:ext cx="7086600" cy="452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 txBox="1"/>
          <p:nvPr/>
        </p:nvSpPr>
        <p:spPr>
          <a:xfrm>
            <a:off x="845640" y="487080"/>
            <a:ext cx="781092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МП «РАЗВИТИЕ ОБРАЗОВАНИЯ ДАЛЬНЕРЕЧЕНСКОГО ГОРОДСКОГО ОКРУГА»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на 2019 год – 465,39 млн.руб. (местный бюджет – 153,62 млн.руб., </a:t>
            </a:r>
            <a:br>
              <a:rPr sz="1400"/>
            </a:b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                                                             краевой бюджет – 311,77 млн.руб.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8" name="Object 4"/>
          <p:cNvGraphicFramePr/>
          <p:nvPr/>
        </p:nvGraphicFramePr>
        <p:xfrm>
          <a:off x="557280" y="1494000"/>
          <a:ext cx="8250120" cy="498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1494000"/>
                    <a:ext cx="8250120" cy="498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КУЛЬТУРЫ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67,6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1" name="Object 4"/>
          <p:cNvGraphicFramePr/>
          <p:nvPr/>
        </p:nvGraphicFramePr>
        <p:xfrm>
          <a:off x="915840" y="1282680"/>
          <a:ext cx="7705800" cy="551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5840" y="1282680"/>
                    <a:ext cx="7705800" cy="551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ДОСТУПНЫМ ЖИЛЬЁМ И КАЧЕСТВЕННЫМИ УСЛУГАМИ ЖКХ НАСЕЛЕНИЯ ДАЛЬНЕРЕЧЕНСКОГО ГОРОДСКОГО ОКРУГА»  на 2019 год - 8,23 млн.руб.</a:t>
            </a:r>
            <a:br>
              <a:rPr sz="1600"/>
            </a:br>
            <a:r>
              <a:rPr b="1" lang="ru-RU" sz="1600" spc="-1" strike="noStrike">
                <a:solidFill>
                  <a:srgbClr val="006666"/>
                </a:solidFill>
                <a:latin typeface="Times New Roman"/>
              </a:rPr>
              <a:t>МП «ОБЕСПЕЧЕНИЕ ЖИЛЬЕМ МОЛОДЫХ СЕМЕЙ ДАЛЬНЕРЕЧЕНСКОГО ГОРОДСКОГО ОКРУГА» на 2019 год – 3,31 млн.руб.</a:t>
            </a:r>
            <a:endParaRPr b="1" lang="en-US" sz="1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4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837720" y="8362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РАЗВИТИЕ ТРАНСПОРТНОГО КОМПЛЕКСА НА ТЕРРИТОРИИ ДАЛЬНЕРЕЧЕНСКОГО ГОРОДСКОГО ОКРУГА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22,57 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27" name="Object 3" descr=""/>
          <p:cNvPicPr/>
          <p:nvPr/>
        </p:nvPicPr>
        <p:blipFill>
          <a:blip r:embed="rId1"/>
          <a:stretch/>
        </p:blipFill>
        <p:spPr>
          <a:xfrm>
            <a:off x="1068480" y="2209680"/>
            <a:ext cx="728496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 txBox="1"/>
          <p:nvPr/>
        </p:nvSpPr>
        <p:spPr>
          <a:xfrm>
            <a:off x="898920" y="843840"/>
            <a:ext cx="7607160" cy="954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ЭНЕРГОЭФФЕКТИВНОСТЬ, РАЗВИТИЕ ГАЗОСНАБЖЕНИЯ И ЭНЕРГЕТИКИ В ДАЛЬНЕРЕЧЕНСКОМ ГОРОДСКОМ ОКРУГЕ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- 1,915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29" name="Object 3"/>
          <p:cNvGraphicFramePr/>
          <p:nvPr/>
        </p:nvGraphicFramePr>
        <p:xfrm>
          <a:off x="1062000" y="21542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2000" y="21542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905400" y="823320"/>
            <a:ext cx="7756200" cy="8265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МП «ИНФОРМАЦИОННОЕ ОБЩЕСТВО»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1,99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32" name="Object 3"/>
          <p:cNvGraphicFramePr/>
          <p:nvPr/>
        </p:nvGraphicFramePr>
        <p:xfrm>
          <a:off x="1071720" y="2031840"/>
          <a:ext cx="7548480" cy="4722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1720" y="2031840"/>
                    <a:ext cx="7548480" cy="472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902880" y="487080"/>
            <a:ext cx="7811280" cy="1000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ОТДЕЛЬНЫЕ МЕРОПРИЯТИЯ В РАМКАХ МУНИЦИПАЛЬНЫХ ПРОГРАММ ДАЛЬНЕРЕЧЕНСКОГО ГОРОДСКОГО ОКРУГА </a:t>
            </a:r>
            <a:br>
              <a:rPr sz="1800"/>
            </a:br>
            <a:r>
              <a:rPr b="1" lang="ru-RU" sz="1800" spc="-1" strike="noStrike">
                <a:solidFill>
                  <a:srgbClr val="006666"/>
                </a:solidFill>
                <a:latin typeface="Times New Roman"/>
              </a:rPr>
              <a:t>на 2019 год – 41,68 млн.руб.</a:t>
            </a:r>
            <a:endParaRPr b="1" lang="en-US" sz="1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335" name="Object 3" descr=""/>
          <p:cNvPicPr/>
          <p:nvPr/>
        </p:nvPicPr>
        <p:blipFill>
          <a:blip r:embed="rId1"/>
          <a:stretch/>
        </p:blipFill>
        <p:spPr>
          <a:xfrm>
            <a:off x="1284120" y="1981080"/>
            <a:ext cx="7132680" cy="45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7963200" cy="6858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06072e"/>
                </a:solidFill>
                <a:latin typeface="Arial"/>
              </a:rPr>
              <a:t>РАСХОДЫ НА ОТДЕЛЬНЫЕ НЕПРОГРАММНЫЕ НАПРАВЛЕНИЯ ДЕЯТЕЛЬНОСТИ ИЗ МЕСТНОГО БЮДЖЕТА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, ВКЛЮЧАЯ РЕЗЕРВНЫЙ ФОНД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7" name="Object 4"/>
          <p:cNvGraphicFramePr/>
          <p:nvPr/>
        </p:nvGraphicFramePr>
        <p:xfrm>
          <a:off x="630360" y="1235160"/>
          <a:ext cx="7839000" cy="550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235160"/>
                    <a:ext cx="7839000" cy="550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804080" cy="11462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600" spc="-1" strike="noStrike">
                <a:solidFill>
                  <a:srgbClr val="330033"/>
                </a:solidFill>
                <a:latin typeface="Times New Roman"/>
              </a:rPr>
              <a:t>ПРЕДЕЛЬНЫЙ ОБЪЕМ УРОВНЯ ДЕФИЦИТА БЮДЖЕТА ДАЛЬНЕРЕЧЕНСКОГО ГОРОДСКОГО ОКРУГА млн.руб.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903240" y="1638360"/>
          <a:ext cx="8007480" cy="4860720"/>
        </p:xfrm>
        <a:graphic>
          <a:graphicData uri="http://schemas.openxmlformats.org/drawingml/2006/table">
            <a:tbl>
              <a:tblPr/>
              <a:tblGrid>
                <a:gridCol w="2606760"/>
                <a:gridCol w="1295280"/>
                <a:gridCol w="1008000"/>
                <a:gridCol w="1008360"/>
                <a:gridCol w="1008000"/>
                <a:gridCol w="1081080"/>
              </a:tblGrid>
              <a:tr h="41976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именование показател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8 г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 год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8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ельный объем уровня дефицита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,33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внутреннего финансирования дефицита бюджета: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луч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5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9,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гашение кредитов от кредитных организац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0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36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2,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-46,4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2,7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зменение остатков средств на счетах по учету бюджета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08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,55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ПОСТУПЛЕНИЕ СОБСТВЕННЫХ ДОХОДОВ В МЕСТНЫЙ БЮДЖЕТ ПО ОСНОВНЫМ ИСТОЧНИКАМ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41440" y="990720"/>
          <a:ext cx="8151840" cy="5694120"/>
        </p:xfrm>
        <a:graphic>
          <a:graphicData uri="http://schemas.openxmlformats.org/drawingml/2006/table">
            <a:tbl>
              <a:tblPr/>
              <a:tblGrid>
                <a:gridCol w="2895480"/>
                <a:gridCol w="1297080"/>
                <a:gridCol w="1008000"/>
                <a:gridCol w="1079640"/>
                <a:gridCol w="1008000"/>
                <a:gridCol w="86364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сточники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9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собственных до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4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26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3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1,14</a:t>
                      </a:r>
                      <a:endParaRPr b="0" lang="en-US" sz="13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5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46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7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3,9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1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21,4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5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96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4,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и на совокупный дох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,8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3,5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8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кциз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8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6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7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9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9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0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1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5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1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еналоговые до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7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4,6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зем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Аренд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2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Штраф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0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7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та за негативное воздействие на окружающую среду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6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1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имуществ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дажа земельных участк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7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5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неналоговые поступлен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6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587160" y="315720"/>
            <a:ext cx="8100000" cy="629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БЕЗВОЗМЕЗДНЫЕ ПОСТУПЛЕНИЯ ОТ ДРУГИХ БЮДЖЕТОВ БЮДЖЕТНОЙ СИСТЕМЫ РОССИЙСКОЙ ФЕДЕРАЦИИ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485640" y="1494000"/>
          <a:ext cx="8568000" cy="4956120"/>
        </p:xfrm>
        <a:graphic>
          <a:graphicData uri="http://schemas.openxmlformats.org/drawingml/2006/table">
            <a:tbl>
              <a:tblPr/>
              <a:tblGrid>
                <a:gridCol w="4027680"/>
                <a:gridCol w="1244520"/>
                <a:gridCol w="950760"/>
                <a:gridCol w="806760"/>
                <a:gridCol w="804600"/>
                <a:gridCol w="733680"/>
              </a:tblGrid>
              <a:tr h="2743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 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639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80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Межбюджетные трансферты, всего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 том числе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69,8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90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2,1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6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бюджетам городских округов на выравнивание бюджетной обеспеченности и по обеспечению сбалансированност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,0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на содержание МФЦ предоставления государственных и муниципальных услуг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,2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строительство, реконструкцию зданий (в том числе проектно-изыскательские работы) детских садов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благоустройство дворовых территор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8,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развитие муниципальной спортивной инфраструктур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текущий, капитальный ремонт муниципальных гидротехнических сооружений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,3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капитальный ремонт и ремонт автомобильных дорог общего пользования населенных пунктов 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9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молодым семьям для приобретения (строительства) жилья экономкласс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65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и на формирование современной городской среды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,1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Х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очие субсидии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3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8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бюджету Дальнереченского городского округа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22,7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92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1,3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7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1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90320" y="228240"/>
            <a:ext cx="7753320" cy="7462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ДАЛЬНЕРЕЧЕНСКОГО ГОРОДСКОГО ОКРУГА НА 2019 ГОД (741,36млн.руб.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7" name="Object 4"/>
          <p:cNvGraphicFramePr/>
          <p:nvPr/>
        </p:nvGraphicFramePr>
        <p:xfrm>
          <a:off x="1130400" y="1231920"/>
          <a:ext cx="7022880" cy="50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0400" y="1231920"/>
                    <a:ext cx="7022880" cy="50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5120" y="228240"/>
            <a:ext cx="8048880" cy="91764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900" spc="-1" strike="noStrike">
                <a:solidFill>
                  <a:srgbClr val="06072e"/>
                </a:solidFill>
                <a:latin typeface="Times New Roman"/>
              </a:rPr>
              <a:t>СТРУКТУРА СОБСТВЕННЫХ (НАЛОГОВЫХ И НЕНАЛОГОВЫХ) ДОХОДОВ В 2019 ГОДУ (351,14 млн.руб)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0" name="Object 4"/>
          <p:cNvGraphicFramePr/>
          <p:nvPr/>
        </p:nvGraphicFramePr>
        <p:xfrm>
          <a:off x="485640" y="1566720"/>
          <a:ext cx="8001000" cy="46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5640" y="1566720"/>
                    <a:ext cx="8001000" cy="46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25080" y="198360"/>
            <a:ext cx="8334360" cy="87624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ru-RU" sz="1900" spc="-1" strike="noStrike">
                <a:solidFill>
                  <a:srgbClr val="06072e"/>
                </a:solidFill>
                <a:latin typeface="Times New Roman"/>
              </a:rPr>
              <a:t>СРАВНЕНИЕ ОБЪЕМОВ МЕЖБЮДЖЕТНЫХ ТРАНСФЕРТОВ 2018 И 2019-2021 ГОДОВ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03" name="Object 4"/>
          <p:cNvGraphicFramePr/>
          <p:nvPr/>
        </p:nvGraphicFramePr>
        <p:xfrm>
          <a:off x="325440" y="1287360"/>
          <a:ext cx="4686120" cy="5438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440" y="1287360"/>
                    <a:ext cx="4686120" cy="54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5240160" y="1141560"/>
          <a:ext cx="3470400" cy="5673600"/>
        </p:xfrm>
        <a:graphic>
          <a:graphicData uri="http://schemas.openxmlformats.org/drawingml/2006/table">
            <a:tbl>
              <a:tblPr/>
              <a:tblGrid>
                <a:gridCol w="1590840"/>
                <a:gridCol w="1879560"/>
              </a:tblGrid>
              <a:tr h="784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иды межбюджетных трансфер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пределение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ff33"/>
                    </a:solidFill>
                  </a:tcPr>
                </a:tc>
              </a:tr>
              <a:tr h="1158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вен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venire</a:t>
                      </a:r>
                      <a:r>
                        <a:rPr b="0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– приходить на помощь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финансирование «переданных» полномочий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1574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убсидия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subsidium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поддержка) 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на условиях долевого софинансирования расходов других бюджетов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6666cc"/>
                    </a:solidFill>
                  </a:tcPr>
                </a:tc>
              </a:tr>
              <a:tr h="12016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Дотации (от латинского </a:t>
                      </a: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Dotatio</a:t>
                      </a: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 – дар, пожертвование)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я без определения конкетной цели их использования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6666"/>
                    </a:solidFill>
                  </a:tcPr>
                </a:tc>
              </a:tr>
              <a:tr h="13716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Иные межбюджетные трансферты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4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редоставляются из бюджетов разного уровня в соответствии с нормативными актами</a:t>
                      </a:r>
                      <a:endParaRPr b="0" lang="en-US" sz="14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6600"/>
                    </a:solidFill>
                  </a:tcPr>
                </a:tc>
              </a:tr>
            </a:tbl>
          </a:graphicData>
        </a:graphic>
      </p:graphicFrame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199880" y="277560"/>
            <a:ext cx="7521480" cy="85716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СУБВЕНЦИЙ НА ВЫПОЛНЕНИЕ ПЕРЕДАВАЕМЫХ ПОЛНОМОЧИЙ В 2019ГОДУ (292,7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07" name="Object 6"/>
          <p:cNvGraphicFramePr/>
          <p:nvPr/>
        </p:nvGraphicFramePr>
        <p:xfrm>
          <a:off x="466560" y="1155600"/>
          <a:ext cx="8460000" cy="535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55600"/>
                    <a:ext cx="8460000" cy="535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598320" y="310680"/>
            <a:ext cx="8109360" cy="5670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400" spc="-1" strike="noStrike">
                <a:solidFill>
                  <a:srgbClr val="006666"/>
                </a:solidFill>
                <a:latin typeface="Times New Roman"/>
              </a:rPr>
              <a:t>РАСПРЕДЕЛЕНИЕ БЮДЖЕТНЫХ СРЕДСТВ В ВЕДОМСТВЕННОЙ СТРУКТУРЕ РАСХОДОВ</a:t>
            </a:r>
            <a:r>
              <a:rPr b="0" lang="ru-RU" sz="1400" spc="-1" strike="noStrike">
                <a:solidFill>
                  <a:srgbClr val="006666"/>
                </a:solidFill>
                <a:latin typeface="Times New Roman"/>
              </a:rPr>
              <a:t>             (млн.руб)</a:t>
            </a:r>
            <a:endParaRPr b="1" lang="en-US" sz="14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541440" y="1351080"/>
          <a:ext cx="8440560" cy="5103720"/>
        </p:xfrm>
        <a:graphic>
          <a:graphicData uri="http://schemas.openxmlformats.org/drawingml/2006/table">
            <a:tbl>
              <a:tblPr/>
              <a:tblGrid>
                <a:gridCol w="3400200"/>
                <a:gridCol w="1440000"/>
                <a:gridCol w="936720"/>
                <a:gridCol w="936360"/>
                <a:gridCol w="790560"/>
                <a:gridCol w="936720"/>
              </a:tblGrid>
              <a:tr h="326520"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оказател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8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Бюджет 2019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Плановый период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19г к 2018г (%)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0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021г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6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щегосударственные вопрос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2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4,28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83,1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,0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5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безопасность и правоохранительная деятельность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8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57,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2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Национальная эконом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1,8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1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9,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Жилищно-коммунальное хозяйство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5,0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разование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63,9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85,5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33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40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274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Культура и кинематография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1,6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6,3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44,4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65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оциальная политик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,66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5,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,5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3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Физическая культура и спорт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,4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27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28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Средства массовой информации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9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65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0,2,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456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Обслуживание государственного и муниципального долга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2,8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3,13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09,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06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Условно утвержденные расходы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9,2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7,7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0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  <a:tr h="3790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ВСЕГО РАСХОДОВ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571,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757,69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37,44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625,91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7640"/>
                          <a:tab algn="l" pos="1835280"/>
                          <a:tab algn="l" pos="2752560"/>
                          <a:tab algn="l" pos="3670200"/>
                          <a:tab algn="l" pos="4587840"/>
                          <a:tab algn="l" pos="5505480"/>
                          <a:tab algn="l" pos="6423120"/>
                          <a:tab algn="l" pos="7340760"/>
                          <a:tab algn="l" pos="8258040"/>
                          <a:tab algn="l" pos="9175680"/>
                          <a:tab algn="l" pos="10093320"/>
                        </a:tabLst>
                      </a:pPr>
                      <a:r>
                        <a:rPr b="0" lang="ru-RU" sz="1200" spc="-1" strike="noStrike">
                          <a:solidFill>
                            <a:srgbClr val="003366"/>
                          </a:solidFill>
                          <a:latin typeface="Times New Roman"/>
                        </a:rPr>
                        <a:t>130,7</a:t>
                      </a:r>
                      <a:endParaRPr b="0" lang="en-US" sz="1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917640" y="277920"/>
            <a:ext cx="7632720" cy="100008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lang="ru-RU" sz="1700" spc="-1" strike="noStrike">
                <a:solidFill>
                  <a:srgbClr val="330033"/>
                </a:solidFill>
                <a:latin typeface="Times New Roman"/>
              </a:rPr>
              <a:t>СТРУКТУРА РАСХОДОВ ДАЛЬНЕРЕЧЕНСКОГО ГОРОДСКОГО ОКРУГА НА 2019 ГОД (757,69 млн.руб.)</a:t>
            </a:r>
            <a:endParaRPr b="0" lang="en-US" sz="1700" spc="-1" strike="noStrike">
              <a:solidFill>
                <a:srgbClr val="330033"/>
              </a:solidFill>
              <a:latin typeface="Times New Roman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558720" y="1397160"/>
          <a:ext cx="8178840" cy="510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8720" y="1397160"/>
                    <a:ext cx="8178840" cy="51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17T02:42:24Z</dcterms:created>
  <dc:creator>user31</dc:creator>
  <dc:description/>
  <dc:language>en-US</dc:language>
  <cp:lastModifiedBy>Куранова</cp:lastModifiedBy>
  <dcterms:modified xsi:type="dcterms:W3CDTF">2019-07-30T01:06:59Z</dcterms:modified>
  <cp:revision>177</cp:revision>
  <dc:subject/>
  <dc:title>Структура собственных доходов на 2016 год бюджета Дальнереченского городского округа</dc:title>
</cp:coreProperties>
</file>