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3FBF-DEE1-45FC-B145-4944C98295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95D7-F299-4C1A-B8D5-583AEFE905A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0EB1-3044-400C-B4C0-4295D8221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00B9-617C-4914-ADEC-3FE63B24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1EFE-B281-462A-B5ED-245D4CA08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4BAC-3D48-47C8-A71D-FDD523E7B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B62F-8550-4BFD-972A-36E0C7B6A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B339-0C90-4326-954E-6B29A970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C099-644E-4418-86EE-33614DE0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78FA-C48F-4286-840A-376FF9EA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961E-B0A9-4C6D-BA16-DE0EF22B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FD01-4EB4-4C6D-AD7C-07EE6E57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7FD7-E131-4AE8-A8A2-E162AB51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70F3-3B3E-4C0F-8524-3B3D14F3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CBBB-8649-4AAD-8A33-DAB6A3E8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F0BC-6F34-4C2C-BFD3-8DDB10FD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834D-A819-4968-B7D7-3FCD84A1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70F2-4E8C-4959-9BE9-49CD90A8B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79AF-0BBA-408E-A11E-ADC40CE79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E4AF3-2E81-4390-9573-7B61118BA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61009-94BB-426A-9D9E-652901A1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4E93A-E6C8-41B0-8764-8A481D09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1012C-2176-422E-A410-82EE61A5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6F00C-045D-46EF-9502-FFAE70DB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D72F-2DC0-4A96-B11C-242D71EA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71D99-CB04-452C-B411-AF6AC633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241A0-C21B-4B16-87A6-91E4FC5C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F681D-0D31-4532-AEB3-C3E4D9DB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F6768-6E76-4A37-9DC6-5CEDCB61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8AFE7-A49A-4B23-8783-72FE3688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B3065-0924-4B34-A710-A1AF338A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D2678-8824-486A-9AF2-A945D3D4D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2BBF6-0F00-49D9-BA8D-64547BBA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F1F9A-FB42-4306-B6F9-042441F7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7A508-D007-422E-B0DF-DBC47B33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463E-2B99-434A-ACE1-87A79F03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517F5-9944-48A0-8050-7D1BBF0E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5BA4E-9F2F-431A-AC5C-334D419F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3A40E-CD73-4702-9993-890F5529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82F79-03CD-4691-9191-D95A1E10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F1345-8A8A-433B-9BD4-45507E24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6D50A-1F1A-411F-84E7-60FB5B44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C7070-CFDE-4317-B9FA-FA971491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8F199-9A09-4EE3-8F5E-640AE6141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96AAD-E89A-4717-B886-6E7BA2AAD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09271-2FDB-4F86-A01C-303C16AB6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701C-7D23-4F1C-B4C2-07AAF6D1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FC80F-1B2F-4349-9A81-EE3507CF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549B3-3322-49A5-9784-6D7F1933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196F8-901C-4DA2-8FC2-0FFF80C2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76D77-CB39-42D2-A9E1-A5E6FAD2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37ABF-E74A-41BF-815F-DB58EC62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83FA6-BC4F-4652-9ADA-ACE65DCC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3272A-E293-44B2-83FC-EAD5CC3C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21E2C-D275-49EC-AAC0-D0C7439A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AFFF0-9FA1-43EF-8592-EB488771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A1991-0809-4592-BC22-4EA6DDF95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EC08-1E2D-4E3D-A403-04EB942E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50614-BC3C-414F-AE6F-F8ADE7C77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54565-566C-48C2-9BF6-CC27E3948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47721-BDDE-4DCC-89C0-B105A89B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A0C2E-885E-41F2-8A7A-DB72C93C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9D7B1-9C41-4797-8FAE-33C3C0C6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07A20-7AAA-44C3-AEE1-9545B4D4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66C81-AE0C-4316-B459-47DF59E6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2F3B3-BEEE-4000-BD36-212C3430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E1B42-8932-4644-B670-663C4AFE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89C9E-3FF8-4649-AB47-921E33DA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6901-CBD0-4C12-A922-DE1F977C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6773D-16D8-41D3-ABA7-50AF20A1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5853B-CCE8-4351-A9F3-1C2EF92C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18A57-E868-47E4-94F3-7B053D4E6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BFDE-A8B5-4965-9745-465D8D1B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DF26-7B42-4B37-8F3F-1D3808E3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D449-F0CF-4F64-816A-C5CB041600D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D4DF-5167-414A-B97E-A60D62EF252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84B7-C872-40E9-B22F-45CD6742358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AE4C-1E5B-4AA2-9A8C-6BF807F1B4F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EA3D-653E-44AF-8E70-6F7AF118E0C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8800"/>
              <a:chOff x="637560" y="534600"/>
              <a:chExt cx="8109000" cy="2988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88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88F6-6995-4D03-B257-291628BD441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782,15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8,61 млн.руб. (местный бюджет – 178,44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70,1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77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1,8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20,12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,6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.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(по состоянию на 01.10.2019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990720"/>
          <a:ext cx="8567640" cy="62452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-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768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02,1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по состоянию на 01.10.20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7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78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5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23:01Z</dcterms:modified>
  <cp:revision>213</cp:revision>
  <dc:subject/>
  <dc:title>Структура собственных доходов на 2016 год бюджета Дальнереченского городского округа</dc:title>
</cp:coreProperties>
</file>