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4DE5-653B-4DC6-9658-7A2E7ECC4E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E18F0-0A94-4D3D-B02D-BC7B779F04FC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CD6D-742E-4445-83C4-F0E2CFCD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8C51-123B-491D-AACF-2FF752DA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EA46-D576-46E3-AFD9-0D4F8E4CB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6B9D-8BE9-46EB-A943-950C7578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ED5D-F04E-4BF9-ABCE-6AA01192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95EF-3B15-4E53-B5D9-762D2B1B1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3BDF-ED6F-474E-978D-096885FC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8B11E-6ED4-45B2-8CAB-2231624C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82B11-7771-4D57-99D2-6EBDF4D0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D5F7B-2507-43D1-85B0-88D42BC0A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BC850-0DC0-4345-814A-CEA8A740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DC6E-09C4-4CDF-975E-65653EA5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C094-BEC9-412A-9D1A-3FFF3922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362B-EA6C-4543-B913-B498121B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335F-5107-46D6-A89C-546FC3C57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660AF-10CF-4771-8D7E-BFCC4CF96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8EA42-892C-4E18-8971-274F0A484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19EED-FE02-49FB-B37A-04F38A9B2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34F96-548D-4E13-915B-2E44BD66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99CA4-3806-43AA-ABC0-85D9F94B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CF038-3772-4002-A340-C20A0D52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83A7C-E221-47C2-B454-3C535F0DF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6A1B-C8EE-4FC3-9F2A-941C40AF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E9875-09D9-42B7-987B-56FA7F4D9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77828-5A12-4D42-BB72-7643DB19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21D48-9060-4EE2-A249-2E10E098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BF0B3-241F-49D9-B75E-2CF5A620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CF6D7-654D-42D6-A246-506313D8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CCFAD-6F4E-40F6-85B9-2EDE2B76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5CCD70-DA37-44B2-86DB-18D15D2A7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C8C98-9970-410F-919F-1ED878F8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0653C-F772-4E87-A9F1-D8AAB049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A67CA-7276-4D6F-A953-655A76D2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D6BB-CEC4-4CC9-BB5E-0AA85A73E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19E83-2106-4E89-913C-3332D63F8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AAF96-C38B-48BC-9E09-88F06E9C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B916D-07DF-49DB-8DA6-390A2A6D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D73AB-297F-44AE-A43B-CA088C55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89421-B528-415F-B15F-5627C57A7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1D3DC-D4EF-4685-94EF-19DE024A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882FC-0F3F-48E9-88D6-F77C4DF0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31EED-ABD5-424E-BED6-51C91A8ED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69118-1F18-4165-94A8-03C822C1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5FC23-7065-4EDA-B53E-2321EB0A2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80F5-235A-4C72-9D2D-15EE929E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55611-9FBE-4335-A887-CCFDB0AF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CB735-9EE4-466D-A875-64C25B43D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BF5CD-4880-413D-92A2-E656FC89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34B20-00F3-4E4A-B56F-B5997D047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56FC5-00F5-44AA-91E1-30243296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7A2F0-E044-48A3-9D73-19623EBD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348A6-7931-4BC9-8BEF-BC5B3B55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4C82B-A80D-424F-8F5E-612CA272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A1EA45-F773-4681-931D-00B4F331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328F8-0BAC-42B2-8B79-B0E13E592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5C84-C553-496C-B75C-AB3091F6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D212A-464F-4FBD-803B-19BA5E389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6A1FB-2CD8-4F95-90AA-6BFD4CC99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FDF9F-CDCC-45A2-959A-C072DC61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B6509-D27B-462E-95CD-FCBE489DA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CD5E6-681F-402B-BF70-9BBEE04C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4162F-1110-47BD-BCED-0B1C74668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0FACD4-9FE9-4753-82CC-BDAC6527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B27B39-FFA2-477B-9418-3F9C1EEC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33FF0-9149-4855-B3CB-BE9A3FCF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D806F-7F8B-423F-8899-6089125A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F086-933C-4046-8FD0-4019D424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83302-35A4-4A2D-AC77-6F207B90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A9CA6C-6BDB-4098-ABCB-32062123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177B9-0007-46D2-8187-89667B1D6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CED0-C0D6-4B6C-9C85-FDD16B93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1BBD-9F2D-4AE7-8A90-6B625C11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A0DC-42B3-49CD-AE39-8BFCF191E7F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3CD4F-397B-4836-8743-896E4C0B3A9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73C2D-7FBD-4A04-84CB-422B9B35938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B211-E0A6-4E88-AB57-B0A0C8CF93C4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A07A-E84A-440C-B7C9-C66E82E1B22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7000"/>
              <a:chOff x="637560" y="534600"/>
              <a:chExt cx="8109000" cy="2970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7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C656-6114-4E10-B67B-37D4904B992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20 ГОД И ПЛАНОВЫЙ ПЕРИОД 2021-2022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5151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9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8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21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7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0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,0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2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822,69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1,25 млн.руб. (местный бюджет – 177,78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63,4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3,11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5,4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29,3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31,04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31920" y="1938240"/>
            <a:ext cx="72896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833800"/>
        </p:xfrm>
        <a:graphic>
          <a:graphicData uri="http://schemas.openxmlformats.org/drawingml/2006/table">
            <a:tbl>
              <a:tblPr/>
              <a:tblGrid>
                <a:gridCol w="2895480"/>
                <a:gridCol w="1152720"/>
                <a:gridCol w="115236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1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4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 от оказания платных услуг и компенсация затрат государств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78160" y="36720"/>
            <a:ext cx="8119440" cy="507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581040"/>
          <a:ext cx="8567640" cy="670860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 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7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менной городской среды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3,2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8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детских сада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5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образования в школа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социальную поддержку детей-сирот и лиц, принявших на воспитание детей-сирот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5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808,6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18,85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77,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7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1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1,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2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8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1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1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.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8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0-02-06T00:09:15Z</dcterms:modified>
  <cp:revision>258</cp:revision>
  <dc:subject/>
  <dc:title>Структура собственных доходов на 2016 год бюджета Дальнереченского городского округа</dc:title>
</cp:coreProperties>
</file>