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2C9-A33D-4E1D-A3E3-7FBEFF4E4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49DF-2507-46FA-8F52-82A616F9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339-D876-43EF-8348-4516B489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4C16-F324-4DF9-8D61-EC5C284B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7275-2043-4561-8C86-8BEE24C2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A42B-9DA2-41A1-A2AC-F5E6300B4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6378-F9EE-4EF4-AB2A-F8A626D10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279A-FC2A-4BF0-B781-C9BD801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0DC3-B42B-4F42-8051-3D18CBB3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32F9-DD4C-4E82-BDEF-32EC5EE24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1F299-0D1E-4E20-AB4B-50B04331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09B3-A7BB-4CF7-81B0-8F697399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CE0C-C2C6-4857-9C36-5C0B91BE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20C0-71A4-480C-94B1-7B08C96C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57D19-1E14-4380-9F0B-9FBEA0AD6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5156-96B1-4753-8008-71C5B6D56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EB928-DB79-428E-A7BA-58AA54F38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3679-A757-4CBD-82DE-3FEE1EF1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5388-F87E-4A51-ACFB-9A895484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753D-80D3-46DA-87B6-8C02F9E1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77EA-AA6A-4885-AC1F-6A8EB820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5DF9-1D87-4772-8366-E67481D3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7E6-81F5-4856-BE56-794C93CA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B27-B640-45B0-B304-6F13A468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06B-43E2-4BBF-AC69-BA65904A4B3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969F-F36F-4611-A160-950DB1C689A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ОД И ПЛАНОВЫЙ ПЕРИОД 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1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-202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14:14Z</dcterms:modified>
  <cp:revision>45</cp:revision>
  <dc:subject/>
  <dc:title>Структура собственных доходов на 2016 год бюджета Дальнереченского городского округа</dc:title>
</cp:coreProperties>
</file>