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0F5D-63F1-47A6-B424-9055CF74910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B9F9-7ADF-419F-AF6E-58C6919495C6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AB24-E04D-4E2B-A176-E3FFE818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B8C-B5F7-4B38-B9CC-8508F86F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908-595E-424F-B931-D9CF58557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8F90-E629-4BEF-ACEE-24CAD1B3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308AA-A36D-49BC-B8BC-6DDFDC04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38BD7-AB79-4D46-A2B4-CD26E9C7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39F9-0BC5-426F-A49B-D196651B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3A8C-F835-451D-82E5-865323038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8778-024A-4216-B4EA-424435E19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55289-5301-49D2-B185-D204EEFD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BC3A-FE32-45D8-96D6-82F04153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BE0-73CD-42C9-88D6-3DDEFA88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DAD56-FBBF-4EEC-88A7-7C122A916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ABDB-ADCD-4A35-A21D-363A7F62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95E1-ED42-463A-8388-3319128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A984-2448-49B4-A641-1EDDB30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725A-1D4A-489A-9416-BCEEE3149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B4302-ED3B-4177-A763-5E28E1B25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9CBD6-6955-401C-ABBA-FF348797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E35F0-F90C-4A13-AC71-BF488132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63052-330E-4C3D-86C6-59A85435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6930E-31AF-47A7-ABC1-44035CB6E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22D9-A6BF-47CE-8E06-36D15AA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EE6C-2924-465E-9B53-C2D42E4E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13FB4-95A5-4D0C-82C2-35B7590F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183A-FBB3-423C-A98E-664924D7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31E3F-2075-4D04-802C-ED563C38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71ED5-1F0D-408C-8917-8B3F7701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AA4B4-3A33-433E-A412-71A4C91FD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C230-65C1-4B8B-A30E-A21254D5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F88F1-3FCF-4F92-B56A-D1F174DE5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CAA53-CAE9-4A4D-A825-A790A4B0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A8E1-77E2-4157-A3D4-912CFB38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2D40-470A-4FBB-BABC-83919713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309F0-5FA8-4CF8-9808-51B43637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5337F-1059-466A-8E91-32A0ADF9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48696-275C-4313-8C32-90DC8D56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E9756-06D6-48BD-9C36-19626824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DBB98-D5B4-4B42-9C67-B7DA6B5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F2459-8009-475B-9E12-CAE9BFBD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E58FE-7187-40BF-83C7-FAE325A4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991CA-2942-4EDD-96D2-E17562CE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81FD3-F2CF-457E-A51E-A4ED81BB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B6205D-8BCD-44DF-9557-3847F1120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20F2-83CA-41A2-97E2-7BBC6BC5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C4AC3-0BB5-4EAC-BDB9-53F5181E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0F0BC-C053-4877-8AA1-EA678967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7E2D6-440F-4BD5-84B6-35052EBF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BC513-7801-45C4-A9F6-A48298D6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B2F71-447F-4282-A4F5-C7859F14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D7861-78D7-4B57-AE9A-42531FA3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3D09F-F125-4579-A201-7BBFB514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0899E-7FEC-462D-853F-5331F6B8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B5C60-7EAD-4002-997A-A228028A7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921CF-8831-49DF-86AC-587E72877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836280"/>
            <a:ext cx="781128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F53E-AAD2-4836-9D73-552C5F1E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5204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63480" y="23684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4096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5204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063480" y="4319640"/>
            <a:ext cx="248652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0A591-F612-4C43-BD08-A638AA1C7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4B3E-CFFC-4DBA-940A-8CF42AD3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98800" y="43196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85F8-4053-4095-8198-CEF7043F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4096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98800" y="2368440"/>
            <a:ext cx="376884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40960" y="4319640"/>
            <a:ext cx="7723080" cy="1781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169-9AE2-46BA-A0AF-DE89CA6E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11EA-32D3-4A23-8A83-7C078A0C703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3EF3-158E-48AD-A9AF-5A1FF8EBE5A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C1A8-3548-4A04-B29F-1F42D39732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4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14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14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9E4AA-1599-41F1-BAB3-9F271A87AE8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9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2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78E0-A410-4C8D-8544-BF6C244ACF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254240" y="331920"/>
            <a:ext cx="7412760" cy="7484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006666"/>
                </a:solidFill>
                <a:latin typeface="Arial"/>
              </a:rPr>
              <a:t>20</a:t>
            </a:r>
            <a:r>
              <a:rPr b="1" lang="ru-RU" sz="1700" spc="-1" strike="noStrike">
                <a:solidFill>
                  <a:srgbClr val="006666"/>
                </a:solidFill>
                <a:latin typeface="Arial"/>
              </a:rPr>
              <a:t>ГОДУ (318,85 млн.руб.)</a:t>
            </a:r>
            <a:endParaRPr b="1" lang="en-US" sz="17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7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8:13Z</dcterms:modified>
  <cp:revision>160</cp:revision>
  <dc:subject/>
  <dc:title>Структура собственных доходов на 2016 год бюджета Дальнереченского городского округа</dc:title>
</cp:coreProperties>
</file>