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0F66-F48C-48A0-8357-583E94950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A534-048E-476E-B48C-3BE43F21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0A4F-2BF0-480B-8064-B929328DE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3013-2F0D-4E0E-8347-B1347D33E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CAF4-98D7-462F-AC18-E894D50E1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2222-1021-4C91-B817-EEB0F059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6809-3361-49BE-9FB1-3B47E2B9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407D-49C9-476C-901E-460C3A88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DEBD-3626-42F1-9114-5CADAE04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3F0D-E6F3-4785-90B1-7544F949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DB56-2EEA-4851-8F93-03D5BC72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3CB0-0C1B-4A46-8128-0D1773A0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3D22-2B98-447B-942A-8A8ADC3B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B757-5756-46C5-913B-ED9A2B74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B6C3-C532-4009-AB2D-7589F6FC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8EC6-CEDE-4EB1-95F8-FA44ADD3F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00C7-2B69-4D4C-B6A9-5EB8D0D1D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0505-DDDC-485D-AB7A-C550FE2C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1ACF-DF81-41B0-ABD9-3F0D1423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D14D-53B7-4CA1-83D4-EB6BBAD9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C6F9-7715-4EC8-B960-B2C148E1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313B-48CD-43C3-98E2-43CEDF24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0793-78ED-4079-A015-2DE136E7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5AE9-17AA-468C-B365-FE7C53F2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D167-D824-44A8-ABA1-E5A6F5F6014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C6C6-8EF1-422F-AE16-981782C80FA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1-01-29T05:53:42Z</dcterms:modified>
  <cp:revision>46</cp:revision>
  <dc:subject/>
  <dc:title>Структура собственных доходов на 2016 год бюджета Дальнереченского городского округа</dc:title>
</cp:coreProperties>
</file>